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A2FD-F750-48BE-BDD6-85380582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Általános fogalmak (komponens, szolgáltatá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9D4-A8DC-4499-B570-D3AD856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03596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F49-7B5A-4576-8ED8-D0DF0A5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D73-F9B9-4F40-836A-D92B9D34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92D-CA87-4733-9F0D-078F8D13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533-B25F-4067-888D-37090547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D08B-9B3D-49B0-B79B-7F32887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E92E-9CA0-4F9C-AFBF-4C70807A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A3B1-383D-4769-AAA8-B2B5241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C0AA-F890-40FE-B9B6-AD06B7D5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25280"/>
            <a:ext cx="8642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736-2126-499F-8170-C38AB021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C69-AAC1-4523-BBFB-B142CDE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45B-45E3-4D9C-8D74-A542512F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7B67-55FD-44EB-9247-E91606D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79D8-2313-4E03-B89C-EE84EF0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03596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40B-95F9-49DA-B440-01B5995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D1CB-B9EB-47AC-ABFE-F1169FC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2864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035960"/>
            <a:ext cx="27824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4952-A109-4B5C-8068-33B1B006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CDF-9636-4C47-AC89-CBE6654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343-AA65-4ABE-855C-D24EFAB6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F6E-0F39-4263-9950-5694050D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25280"/>
            <a:ext cx="8642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498-1C0F-4F69-A39F-BB65C970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190-75F6-45C1-9A72-0C66AE8A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03596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4AA-EFB4-44EB-8160-6FA837E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28640"/>
            <a:ext cx="421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035960"/>
            <a:ext cx="8642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70A-D7BB-45BB-9E98-D498AF6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8796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6A6-7FE8-40A9-A74F-F4A6B11D7B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086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B6FF-8CD6-4168-901F-0DD4257EE3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kocsis@mit.bme.h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tatikus hibaterjedés-vizsgálat </a:t>
            </a: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rejtett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korlát-logikai programozáss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FLP szemináriumi elő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csis Im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ktoran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E-MIT Hibatűrő Rendszerek Kutatócso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kocsis@mit.bme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007.11.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lemtípus-szintű hibaterjedés statikus leírása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meneti szindróma-változ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eneti szindróma-változ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első) hibaálla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ó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namikus struktúrák modellezé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ódi pesszimista túlabsztrahá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essimistic overabstrac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eman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élda 1: switch, belső hibaok nélkü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773360"/>
          <a:ext cx="8641800" cy="4608000"/>
        </p:xfrm>
        <a:graphic>
          <a:graphicData uri="http://schemas.openxmlformats.org/drawingml/2006/table">
            <a:tbl>
              <a:tblPr/>
              <a:tblGrid>
                <a:gridCol w="4320720"/>
                <a:gridCol w="4321080"/>
              </a:tblGrid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ányzó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ányzó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éső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éső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sszul formált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ányzó cso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thiba az üzenettörzsb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thiba az üzenettörzsb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élda 2: Háromszoros moduláris redundancia (TMR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Hibaterjedés statikus analízis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hív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rnöki modell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valitatív hibamódok között teljes rendezé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indróma-készletek kompozicionali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képezés matematikai analízi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ízis-megoldás illesztése nyílt rendszertervezési  és rendszermenedzsment eszközökhö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modell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Korlát-logikai programoz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P(X) sém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g + X adattartomány és azon értelmezet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rlátok (relációk)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X-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ős” következtetési mechanizmu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X korlá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ldák 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-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Q vagy 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áris egyen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ég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en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lenség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vetkezteté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auß elimináció és szimplex móds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F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rlátok = aritmetikai és kombinatorikus reláci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teté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 CSP–módszer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rlátok = ítéletkalkulusbeli reláció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etés: SAT-s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4680" y="6251400"/>
            <a:ext cx="84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(kivonat a BME Nagyhatékonyságú Logikai Programozás kurzusának jegyzetébő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149720"/>
            <a:ext cx="8569080" cy="1008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P(FD) = LP + CSP(FD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málisa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P = &l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,D,C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X változók halma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 értékek domé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 korlátok halma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rlát: &lt;t, R&gt;, ahol t változó n-es és R egy |t| szignatúrájú rel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k egy lekötése: v: X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lekötés kielégít egy &lt;(x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…, x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, R&gt; korlátot, h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v(x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, …, v(x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megoldás egy olyan lekötés, mely minden korlátot kielégí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: D véges halm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600" y="62514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(A Wikipedia Constraint Satisfaction szócikke alapjá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P(FD) megfelelősége a problémár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Változ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meneti/kimeneti szindróm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ső hibamód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Domé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menti/kimeneti szindrómanyel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ső hibamódhalmaz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Korlá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jesztési szabályok belső hibamódokkal modulál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menetek és bementek egyenlős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gol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hetséges teljes diagnosztikai kép részleges diagnosztikai kép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agy teljesebb részleges részlegesb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P-ben nincs „előre” és „visszafele” következteté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SP megold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szalépéses iteratív keresés (backtra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rlát-terjesztés (constraint propag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kális keresés (local sear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yakorlatban ezek együtt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talánosságban: NP-teljes problé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SP megoldás - visszalépéses iteratív keresés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ltozó kiválasz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öntési pont: változó lehetséges érték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kötés, konzisztenciaellenőr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acktracking vagy CALL változó kiválasz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változ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tozó-sor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ési stratégi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aknázhatóság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SP-megoldás - korlát-terjesztés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ltozók/korlátok egy csoportja valamilyen konzisztenciájának fenntar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talános lokális konzisztenc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old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omópont (node): unáris korlát teljesül az érintett változó doménjé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X &lt; 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 (arc): egy változó élkonzisztens egy másikkal, ha minden megengedett értékéhez létezik a másiknak megengedett érté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jesztés: (informálisan) a konzisztencia kikényszerítésének szükségessége változóról változóra „terj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Hibák nagy, heterogén IT rendszerekben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19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90000" y="3573360"/>
            <a:ext cx="485640" cy="64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6520" y="3284640"/>
            <a:ext cx="703440" cy="64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ahoma"/>
              </a:rPr>
              <a:t>X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86000" y="1700280"/>
            <a:ext cx="485640" cy="64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0880" y="1773360"/>
            <a:ext cx="703440" cy="64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ahoma"/>
              </a:rPr>
              <a:t>X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645000"/>
            <a:ext cx="8136000" cy="303516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tező igén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agnózis („root cause analysi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selemzés („impact analysi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odellvezérelt, CLP alap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nfrastruktúra-analí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SP-megoldás - korlát-terjesztés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léma-specifikus korlá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magasabbrendű" konzisztencia-foga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Stus: globális korlá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énspecifikus konzisztenc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Lokális konzisztencia hibaterjedésre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 megközelítés: „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ságtábl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lobális korlát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65008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lobális konzisztencia hibaterjedésre?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eneti/kimeneti intervallumok intervallumra kép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f-line heurisztik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 változólekötéseket tartalmazó kérdéseknél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j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: kérdezhetünk intervallumokra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failure in this rang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of severi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Korlát</a:t>
            </a: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logikai programoz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: Prolog rezolúció + visszalép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talános mod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P: korlát-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j korlát felvétele: predikátum hí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osztott" változ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ös visszalép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g meghiúsulás: a tár is visszalé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r inkonzisztenssé válása: visszalépés a  legutolsó Prolog choicepoint-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-konzisztencia: automatik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esés: speciális predik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P(FD) SICStus Prolog-ban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- use_module(library(clpfd)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ének: egész számok véges halmaz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épített korlá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tmetikai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én/tagsági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zicionáli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binatorik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használói kiterjeszt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exikáli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ális korlát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ton következte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ső megvaló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Modellvezérelt rendszertervezé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DE, MDD, MDA, … 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oménspecifikus, vizuális metamodell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zőpont-specifikus, precíz modellezési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tandard meta-metamodellezési sz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ML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~) deklaratív transzformá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33156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Doménspecifikus metamodellezés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Példa: egyszerű </a:t>
            </a:r>
            <a:br>
              <a:rPr sz="4000"/>
            </a:b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infrastruktúra-modellezési nyelv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élda: hibaterjesztési reláció tudásbázi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9144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280" y="836280"/>
            <a:ext cx="3492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Példa: hibaterjedési topológia nyelv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91000" y="114480"/>
            <a:ext cx="5553000" cy="6743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2997360"/>
            <a:ext cx="5832360" cy="332424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 má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afikus editor generálás félautomatiku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bványos, nyílt konkrét szintaxis generálása (X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ltér-karbantartó kód automatikus generá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elérés automatikus generá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A hibatűrés alapfogalmai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baok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u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ső hibaok (internal fau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lső hibaok (external fau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bás állapot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rr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bahatás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il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rzékenységvizsgálat (Sensitivity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ózis (diagnost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Modelltranszformáció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0720" cy="3422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meneti modell alapjá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tamodell-vezérelt bejárás/mintailleszté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ly új modellt épít/modellt módosít/szöveget gener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3284640"/>
            <a:ext cx="3671640" cy="332424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zközö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ATRA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nArchitecture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eratív, ad-hoc megold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Szokásos modelltranszformációs</a:t>
            </a:r>
            <a:br>
              <a:rPr sz="4000"/>
            </a:b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esetek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16000" y="1905120"/>
          <a:ext cx="49323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1905120"/>
                    <a:ext cx="49323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995480" y="2870280"/>
          <a:ext cx="495144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5480" y="2870280"/>
                    <a:ext cx="49514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990800" y="3870360"/>
          <a:ext cx="493848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0800" y="3870360"/>
                    <a:ext cx="4938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4640" y="5302080"/>
          <a:ext cx="81997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4640" y="5302080"/>
                    <a:ext cx="8199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4000" y="5157720"/>
            <a:ext cx="8569080" cy="1079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Rejtett formális módszere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57560" y="2967120"/>
            <a:ext cx="1254240" cy="1888920"/>
          </a:xfrm>
          <a:prstGeom prst="rect">
            <a:avLst/>
          </a:prstGeom>
          <a:solidFill>
            <a:srgbClr val="99cc00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transz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90680" y="2535120"/>
            <a:ext cx="2130480" cy="2587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Rendszer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mode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(fél)formá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specif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55080" y="1773360"/>
            <a:ext cx="289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nöki modell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24400" y="3067200"/>
            <a:ext cx="2436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2680" y="2535120"/>
            <a:ext cx="2130480" cy="1063800"/>
          </a:xfrm>
          <a:prstGeom prst="rect">
            <a:avLst/>
          </a:prstGeom>
          <a:solidFill>
            <a:srgbClr val="ff9900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</a:t>
            </a: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ematik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mod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880" y="2222640"/>
            <a:ext cx="219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utomatizá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odellgener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4059360"/>
            <a:ext cx="2130480" cy="1063440"/>
          </a:xfrm>
          <a:prstGeom prst="rect">
            <a:avLst/>
          </a:prstGeom>
          <a:solidFill>
            <a:srgbClr val="ff9900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</a:t>
            </a:r>
            <a:r>
              <a:rPr b="0" lang="hu-HU" sz="2400" spc="-1" strike="noStrike">
                <a:solidFill>
                  <a:srgbClr val="000066"/>
                </a:solidFill>
                <a:latin typeface="Arial"/>
              </a:rPr>
              <a:t>íz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7920" y="3602160"/>
            <a:ext cx="0" cy="455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7080" y="1773360"/>
            <a:ext cx="294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tematikai analíz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24040" y="4743360"/>
            <a:ext cx="2436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43920" y="522936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isszaannot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92000" y="125280"/>
            <a:ext cx="56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latform: Eclips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yílt forráskódú, ingyenes SW keretren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ázis: Eclipse RCP, kiterjesztés: plug-i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ismertebb megjelenési forma: Java 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tp://www.eclips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” nyílt szoftver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Rational Software Archit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ureu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Xlips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04000" y="5445000"/>
            <a:ext cx="221760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Szoftverarchitektúr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20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95640" y="5084640"/>
            <a:ext cx="4788000" cy="129708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nöki modellezési té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figuráció-menedzsment eszközökkel integrálható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21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59280" y="4941720"/>
            <a:ext cx="5724360" cy="129708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gyanazon modell analízis-aspektus nézete (EMF default edi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-line automatikus karbantar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627280" y="6021360"/>
            <a:ext cx="6373800" cy="574560"/>
          </a:xfrm>
          <a:prstGeom prst="rect">
            <a:avLst/>
          </a:prstGeom>
          <a:solidFill>
            <a:srgbClr val="ffcc66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ásbázis”-modell (EMF default edi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rolog kódgenerál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ncepcionális elemek, leképezés je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udásbázi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rametrikus, statikus korlát-regisztráló kó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inamikus (meta-call): nem praktik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ott topoló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tikus: parametrizált hívások előre meghatározott sorrend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inamikus: korlát-regisztrálás állapotfüggő (LP + CSP!) vezérl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zérlés: külső vagy belső logika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totípus: egymenetes, statik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nalízis-célok lekép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elenleg: részleges változólekötés kézz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1189080"/>
            <a:ext cx="5045040" cy="5119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60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Hibaterjedé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" y="16286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üggő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haszná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cs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baterjedé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-álla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 hiá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Munkafolyamat (workflow), 1: modellek regisztrálás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773360"/>
            <a:ext cx="9144000" cy="371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workflow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5fbf"/>
                </a:solidFill>
                <a:latin typeface="Courier New"/>
              </a:rPr>
              <a:t>&lt;!-- IM modell slot-ba helyezese. --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component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xmiParser"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org.openarchitectureware.emf.XmiReader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metaModelPackage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FaultProp.FaultPropPackage"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modelFile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model/example.faultprop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outputSlot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model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firstElementOnly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true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component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5fbf"/>
                </a:solidFill>
                <a:latin typeface="Courier New"/>
              </a:rPr>
              <a:t>&lt;!-- </a:t>
            </a:r>
            <a:r>
              <a:rPr b="1" lang="hu-HU" sz="1600" spc="-1" strike="noStrike">
                <a:solidFill>
                  <a:srgbClr val="3f5fbf"/>
                </a:solidFill>
                <a:latin typeface="Courier New"/>
              </a:rPr>
              <a:t>Knowledgebase</a:t>
            </a:r>
            <a:r>
              <a:rPr b="1" lang="en-US" sz="1600" spc="-1" strike="noStrike">
                <a:solidFill>
                  <a:srgbClr val="3f5fbf"/>
                </a:solidFill>
                <a:latin typeface="Courier New"/>
              </a:rPr>
              <a:t> modell slot-ba helyezese. --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f5fbf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Munkafolyamat (workflow), 2: „tudásbázis”-kódgenerál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700280"/>
            <a:ext cx="9144000" cy="39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5fbf"/>
                </a:solidFill>
                <a:latin typeface="Courier New"/>
              </a:rPr>
              <a:t>&lt;!-- Kodgeneralas --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component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org.openarchitectureware.xpand2.Generator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metaModel </a:t>
            </a:r>
            <a:r>
              <a:rPr b="1" lang="hu-HU" sz="1600" spc="-1" strike="noStrike">
                <a:solidFill>
                  <a:srgbClr val="3f7f7f"/>
                </a:solidFill>
                <a:latin typeface="Courier New"/>
              </a:rPr>
              <a:t>c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org.openarchitectureware.type.emf.EmfMetaModel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metaModelPackage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FaultErrorFailure.FaultErrorFailurePackage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metaModel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expand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KnowledgeBase::knowledgeBaseTranslation FOR knowledgebase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outlet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pa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src-gen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outlet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SRC_GEN_DIR"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pa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src-gen" </a:t>
            </a:r>
            <a:r>
              <a:rPr b="1" lang="en-US" sz="1600" spc="-1" strike="noStrike">
                <a:solidFill>
                  <a:srgbClr val="7f007f"/>
                </a:solidFill>
                <a:latin typeface="Courier New"/>
              </a:rPr>
              <a:t>app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600" spc="-1" strike="noStrike">
                <a:solidFill>
                  <a:srgbClr val="2a00ff"/>
                </a:solidFill>
                <a:latin typeface="Courier New"/>
              </a:rPr>
              <a:t>"true"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n-US" sz="1600" spc="-1" strike="noStrike">
                <a:solidFill>
                  <a:srgbClr val="3f7f7f"/>
                </a:solidFill>
                <a:latin typeface="Courier New"/>
              </a:rPr>
              <a:t>component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Munkafolyamat (workflow), 3: egymenetes korlátregisztrálá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736640"/>
            <a:ext cx="914400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org.openarchitectureware.xpand2.Generator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metaModel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org.openarchitectureware.type.emf.EmfMetaModel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metaModelPackage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FaultProp.FaultPropPackage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metaModel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expand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ostNetworkToStore::postNetworkToStoreCode FOR model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outlet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pat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src-gen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outlet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SRC_GEN_DIR"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pat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src-gen" </a:t>
            </a:r>
            <a:r>
              <a:rPr b="0" lang="en-US" sz="1600" spc="-1" strike="noStrike">
                <a:solidFill>
                  <a:srgbClr val="7f007f"/>
                </a:solidFill>
                <a:latin typeface="Courier New"/>
              </a:rPr>
              <a:t>app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true"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0" lang="en-US" sz="1600" spc="-1" strike="noStrike">
                <a:solidFill>
                  <a:srgbClr val="3f7f7f"/>
                </a:solidFill>
                <a:latin typeface="Courier New"/>
              </a:rPr>
              <a:t>workflow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KnowledgeBase.xp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33720"/>
            <a:ext cx="9144000" cy="27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DEFI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nowledgeBaseTranslation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aultErrorFailure::KnowledgeBase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XP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eader::header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XP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ymbolTable::symbolTable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XP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urTemplates::behaviourTemplates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XP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ypeProxiesForConstraintPosting::typeProxies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NDDEFI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Eredmén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97000"/>
            <a:ext cx="9144000" cy="554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ine_fm_st </a:t>
            </a:r>
            <a:r>
              <a:rPr b="1" lang="en-US" sz="1200" spc="-1" strike="noStrike">
                <a:solidFill>
                  <a:srgbClr val="969696"/>
                </a:solidFill>
                <a:latin typeface="Courier New"/>
              </a:rPr>
              <a:t>: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bb_put('OK', 0), bb_put('INTERNALFAULT', 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ine_de_st </a:t>
            </a:r>
            <a:r>
              <a:rPr b="1" lang="en-US" sz="1200" spc="-1" strike="noStrike">
                <a:solidFill>
                  <a:srgbClr val="969696"/>
                </a:solidFill>
                <a:latin typeface="Courier New"/>
              </a:rPr>
              <a:t>: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bb_put('DATA_OK', 0), bb_put('DATA_OMISSION', 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mbol_definitions </a:t>
            </a:r>
            <a:r>
              <a:rPr b="1" lang="en-US" sz="1200" spc="-1" strike="noStrike">
                <a:solidFill>
                  <a:srgbClr val="969696"/>
                </a:solidFill>
                <a:latin typeface="Courier New"/>
              </a:rPr>
              <a:t>: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define_fm_st, define_reverse_fm_st, define_de_st, define_reverse_de_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0_FAILSILENT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200" spc="-1" strike="noStrike">
                <a:solidFill>
                  <a:srgbClr val="969696"/>
                </a:solidFill>
                <a:latin typeface="Courier New"/>
              </a:rPr>
              <a:t>: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b_get('DATA_OMISSION'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bb_get('DATA_OK'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b_get('OK'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0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bb_get('INTERNALFAULT'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1_INTERNAL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st_to_fdset([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I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n_set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I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st_to_fdset([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O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n_set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O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st_to_fdset([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0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1_INTERNAL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n_set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D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1_INTERNAL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#\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1_INTERNAL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#\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0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1_DATA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#\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0_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#/\ 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#=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S0_DATA_O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0_Computer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200" spc="-1" strike="noStrike">
                <a:solidFill>
                  <a:srgbClr val="969696"/>
                </a:solidFill>
                <a:latin typeface="Courier New"/>
              </a:rPr>
              <a:t>: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0_FAILSILENT(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IN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OUTPORTVAR_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8000c8"/>
                </a:solidFill>
                <a:latin typeface="Courier New"/>
              </a:rPr>
              <a:t>FAULTMODEV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Kódrészlet: BehaviourTemplate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628640"/>
            <a:ext cx="9144000" cy="50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((FAULTMODE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#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«fm.internalFaultMode.nameVarForFaultMode()-»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m.inputErrors 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pe 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ter -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#/\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(INPORTVAR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iter.counter0»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#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«inpe.inputErrorMode.nameVarForErrorMode() -»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m.outputErrors 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pe 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ter -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#/\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(OUTPORTVAR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iter.counter0» 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#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«outpe.outputErrorMode.nameVarForErrorMode() -»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20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»</a:t>
            </a:r>
            <a:r>
              <a:rPr b="1" lang="en-US" sz="2000" spc="-1" strike="noStrike">
                <a:solidFill>
                  <a:srgbClr val="2a00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PostNetworkToStore.xp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133720"/>
            <a:ext cx="9144000" cy="369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postnetwork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llectFaultPropGUIDVars()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pv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SEPARA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",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«fpv.toString()-»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ropagationComponent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opc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SEPARA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",\n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propc.type.typePredicate()-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opc.inPort.dataFlowEdge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fe-»</a:t>
            </a:r>
            <a:r>
              <a:rPr b="1" lang="hu-H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dfe.varNameForDfEdge()»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opc.outPort.dataFlowEdge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fe-»</a:t>
            </a:r>
            <a:r>
              <a:rPr b="1" lang="hu-H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dfe.varNameForDfEdge()»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propc.varNameForPropComponent()-»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«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ENDFOREA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»</a:t>
            </a:r>
            <a:r>
              <a:rPr b="1" lang="en-US" sz="1800" spc="-1" strike="noStrike">
                <a:solidFill>
                  <a:srgbClr val="2a00ff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Eredmén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163600"/>
            <a:ext cx="9144000" cy="27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network(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0_DF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1_DF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2_DF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0_Component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1_ComponentTw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2_DSour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3_DSin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969696"/>
                </a:solidFill>
                <a:latin typeface="Courier New"/>
              </a:rPr>
              <a:t>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0_Computer(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0_DF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1_DF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0_Component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0_Computer(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1_DF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2_DF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1_ComponentTw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_DataSource(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0_DF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2_DSour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2_DataSink(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DFE2_DF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8000c8"/>
                </a:solidFill>
                <a:latin typeface="Courier New"/>
              </a:rPr>
              <a:t>PC3_DSin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276280"/>
            <a:ext cx="8642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Demo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2276280"/>
            <a:ext cx="8642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Tartalék fóliá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Hibaterjedés függő komponensek között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360" y="1557360"/>
            <a:ext cx="8901360" cy="42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9880" y="6251400"/>
            <a:ext cx="87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(Laprie et al.: Basic Concepts of and Taxonomy of Dep. And Secure Computing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Továbblépési irányo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erarchikus modellfinom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zérelhetőséget biztosító kód generá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Partially dynamic CSP </a:t>
            </a:r>
            <a:br>
              <a:rPr sz="4000"/>
            </a:b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with Sicstus Prolog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LP search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odes: (G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S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acktracking: Prolog OR constrain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straint ‘statements’ are retract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CStus Prolog + clpfd library (finite dom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onotonic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long a Prolog search tree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ybrid probl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51280" y="1916280"/>
            <a:ext cx="529272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aeaea"/>
                </a:solidFill>
                <a:latin typeface="Arial"/>
              </a:rPr>
              <a:t>Constraint Logic Programming: evolving Constraint Satisfaction Problem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920" y="1988640"/>
            <a:ext cx="3889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LP: Prolog + C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oals + constraint st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log search tree: differing, incremental problem refi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finement can be driven from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ot Dynamic CSP (monotonic on all branch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ut can be ‘good enough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24360" y="2205000"/>
          <a:ext cx="514836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05000"/>
                    <a:ext cx="514836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CSP evolvability in </a:t>
            </a:r>
            <a:br>
              <a:rPr sz="4000"/>
            </a:b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SICStus Prolog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844640"/>
          <a:ext cx="8229600" cy="447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clau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callable constraints run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-c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rting constraint into current goal for posting into the st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trac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 stores 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lternative problem formulations along Prolog search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-logic predic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cking variable entail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outining, bloc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even state some constraints until (partial) solution on subprob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board, mutable te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ic global variables (usage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olutions’ predic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ther all possible (partial) labelings for (sub)problem(-spac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CSP evolvability in </a:t>
            </a:r>
            <a:br>
              <a:rPr sz="4000"/>
            </a:br>
            <a:r>
              <a:rPr b="1" lang="hu-HU" sz="4000" spc="-1" strike="noStrike">
                <a:solidFill>
                  <a:srgbClr val="eaeaea"/>
                </a:solidFill>
                <a:latin typeface="Arial"/>
              </a:rPr>
              <a:t>SICStus Prolog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773360"/>
          <a:ext cx="8229600" cy="271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ket based I/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log search flow control, problem refinement with/based on data from outside, result/state feedb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board-based process communication (Linda packag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be for emulating concurrent and hybrid 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-call with time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time’ approach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stus Ob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SICStus clp(fd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836640"/>
          <a:ext cx="8229600" cy="5880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ite domain 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thmetic, membership, prop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itional a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mb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atori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nstra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t-in, optimiz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-defined global constra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log code in a propagator-scheduler; domain-specific consistency algorithms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al constraints are dynam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lection predic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ite domain set reflection 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‘solution’ must not mean only labeling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ification (constraint validness mapped into a boolean variab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ful as control mechanism (‘logic switchboard’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umeration predic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P search must be explicitly requested as usual; can backtr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al constraint instances are on-the-fly extendable with new variables for monotonic reas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details not completely clear; see Barták: Dynamic Global Constraints in Backtracking Based Environ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00720" y="692280"/>
            <a:ext cx="46432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0240" y="981000"/>
            <a:ext cx="4038480" cy="152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927680" y="2060640"/>
            <a:ext cx="1366920" cy="1224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086600" y="2276640"/>
            <a:ext cx="1224000" cy="1008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69880" y="33559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Inputs and outputs: beh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19560" y="4222800"/>
            <a:ext cx="2595240" cy="5101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v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v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v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v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4880" y="4286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22800" y="4890960"/>
            <a:ext cx="3550320" cy="510120"/>
            <a:chOff x="5122800" y="4890960"/>
            <a:chExt cx="3550320" cy="510120"/>
          </a:xfrm>
        </p:grpSpPr>
        <p:sp>
          <p:nvSpPr>
            <p:cNvPr id="115" name=""/>
            <p:cNvSpPr/>
            <p:nvPr/>
          </p:nvSpPr>
          <p:spPr>
            <a:xfrm>
              <a:off x="5122800" y="4890960"/>
              <a:ext cx="2595240" cy="5101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v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v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v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v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v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84360" y="4933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99"/>
                  </a:solidFill>
                  <a:latin typeface="Arial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12000" y="4078440"/>
            <a:ext cx="360360" cy="143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078440"/>
            <a:ext cx="360360" cy="143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078440"/>
            <a:ext cx="360360" cy="143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4078440"/>
            <a:ext cx="360360" cy="143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4078440"/>
            <a:ext cx="360360" cy="143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047560" y="5692680"/>
            <a:ext cx="2847240" cy="1056240"/>
            <a:chOff x="5047560" y="5692680"/>
            <a:chExt cx="2847240" cy="1056240"/>
          </a:xfrm>
        </p:grpSpPr>
        <p:sp>
          <p:nvSpPr>
            <p:cNvPr id="123" name=""/>
            <p:cNvSpPr/>
            <p:nvPr/>
          </p:nvSpPr>
          <p:spPr>
            <a:xfrm>
              <a:off x="5047560" y="6238800"/>
              <a:ext cx="2847240" cy="5101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E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E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E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E</a:t>
              </a:r>
              <a:r>
                <a:rPr b="0" lang="hu-HU" sz="2400" spc="-1" strike="noStrike" baseline="-25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hu-HU" sz="2400" spc="-1" strike="noStrike">
                  <a:solidFill>
                    <a:srgbClr val="000099"/>
                  </a:solidFill>
                  <a:latin typeface="Arial"/>
                </a:rPr>
                <a:t>,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31080" y="5692680"/>
              <a:ext cx="485640" cy="4017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Adathibá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21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apcsolatok: protokoll-automata saját abc-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hib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olyan érték egy adott pillanatban egy kapcsolaton, mely a referencia-rendszerben nem megenged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lasszifikáció: „mérnöki tapasztala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Dinamikus vizsgálatok korlátai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lapottér-kezelés problémá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íz modell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ozit rendsz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sd modellellenőrzés (Formális módszer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lezési problém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fekete doboz" rendsz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esség - valósidejű diagnosztik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19640" y="1413000"/>
            <a:ext cx="374508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47680" y="1773360"/>
            <a:ext cx="2847240" cy="5101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933960" y="1038240"/>
            <a:ext cx="297000" cy="3217680"/>
          </a:xfrm>
          <a:custGeom>
            <a:avLst/>
            <a:gdLst>
              <a:gd name="textAreaLeft" fmla="*/ 0 w 297000"/>
              <a:gd name="textAreaRight" fmla="*/ 107280 w 297000"/>
              <a:gd name="textAreaTop" fmla="*/ 83880 h 3217680"/>
              <a:gd name="textAreaBottom" fmla="*/ 3133800 h 32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9360" y="2930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Arial"/>
              </a:rPr>
              <a:t>Szindrómá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4760" y="16268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szerfutás: hib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rozatai a kapcsolatok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rror”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séges hiba-futások halmazának particionálá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indróm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dőbeli absztrak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gyük a legsúlyosabbat (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„súlyossági” reláció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szinkron és szinkron rendszerekre ugyana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2528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Hibaterjedés statikus leírás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álisan: dinamika elhagy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lapot-absztrak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onensek belső hibamód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ció az adatfolya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rbeli: kvalitatív hibamód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őbeli: hiba-futás klasszifik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lékhatás: ütemezés, szinkronitás elvesz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21:32:09Z</dcterms:created>
  <dc:creator>Kocsis Imre</dc:creator>
  <dc:description/>
  <dc:language>en-US</dc:language>
  <cp:lastModifiedBy>Kocsis Imre</cp:lastModifiedBy>
  <dcterms:modified xsi:type="dcterms:W3CDTF">2007-11-19T18:42:22Z</dcterms:modified>
  <cp:revision>54</cp:revision>
  <dc:subject/>
  <dc:title>Statikus hibaterjedés-vizsgálat korlát-logikai programozással</dc:title>
</cp:coreProperties>
</file>