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3A0-A8A4-45D2-9B97-21717A24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565-DAC7-4BDB-98E8-607F1FC9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E06-9560-4DCD-85F0-53CA9613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BBC0-4A0E-4F68-99E4-561517AAA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CEFD-56F2-48F8-B71D-F6FDDB33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9BED-501F-4DDE-B2BD-B7B596AC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0359-1EC2-4111-AEDF-9F647154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DB36-A913-47CE-A4F5-89D98412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C207-9C35-4C3E-B3D7-473D1322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8959F-374F-4E46-8645-C4827AE1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B53E-1827-4725-BA2F-9BB8E85B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7098-B84A-413D-87DF-5266F70A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1826-2E61-4E99-90E1-E02F3A0B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85A1-DF96-40E5-B8FB-7358BCBB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95B5F-9CA2-46DC-9AA0-8A091680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BE1B-F317-4727-BB56-257A2507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DC79-3126-45B0-AA10-3E652531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ED8-8379-4F56-9368-4C110F24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F86-1C49-4B2E-85B4-1A57B2D3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A383-5349-4EE2-94D6-A41A8537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3798-DD68-4FF1-97CF-DAB589C3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2187-8C1A-4412-AEBD-56E0686B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F926-72CC-44BB-B92F-C7A56577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EF2B-FA43-4FDE-A5F7-9E8DB865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FB94-CB7C-4D34-AF79-D21B22AAC076}" type="datetime">
              <a:rPr b="0" lang="hu-HU" sz="1400" spc="-1" strike="noStrike">
                <a:solidFill>
                  <a:srgbClr val="003300"/>
                </a:solidFill>
                <a:latin typeface="Times New Roman"/>
              </a:rPr>
              <a:t>26.07.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9669-F33F-4C44-B43F-2F4E43E751C4}" type="slidenum">
              <a:rPr b="0" lang="hu-HU" sz="14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41C7-A349-4293-917F-310368A86D47}" type="datetime">
              <a:rPr b="0" lang="hu-HU" sz="1400" spc="-1" strike="noStrike">
                <a:solidFill>
                  <a:srgbClr val="003300"/>
                </a:solidFill>
                <a:latin typeface="Times New Roman"/>
              </a:rPr>
              <a:t>26.07.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07E7-3C62-4186-99C9-6A11A901B177}" type="slidenum">
              <a:rPr b="0" lang="hu-HU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1412640"/>
            <a:ext cx="7407360" cy="129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Prolog </a:t>
            </a:r>
            <a:r>
              <a:rPr b="0" lang="hu-HU" sz="4400" spc="-1" strike="noStrike">
                <a:solidFill>
                  <a:srgbClr val="000099"/>
                </a:solidFill>
                <a:latin typeface="Arial"/>
              </a:rPr>
              <a:t>rendszerek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k</a:t>
            </a:r>
            <a:r>
              <a:rPr b="0" lang="hu-HU" sz="4400" spc="-1" strike="noStrike">
                <a:solidFill>
                  <a:srgbClr val="000099"/>
                </a:solidFill>
                <a:latin typeface="Arial"/>
              </a:rPr>
              <a:t>ülső nyelvi interfészei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14920" y="5445000"/>
            <a:ext cx="35290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609480" indent="-60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Biener P</a:t>
            </a:r>
            <a:r>
              <a:rPr b="0" lang="hu-HU" sz="2800" spc="-1" strike="noStrike">
                <a:solidFill>
                  <a:srgbClr val="003300"/>
                </a:solidFill>
                <a:latin typeface="Times New Roman"/>
              </a:rPr>
              <a:t>ét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bp131@hszk.bme.hu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élda: one_dif/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one_dif(X, Y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X és Y két egész szám, különbségük abszolútértéke 1. Két bemenő argumentummal meghívva ellenőrző jellegű predikátum, egy bemenő argumentummal meghívva visszaadja a szomszédos egészeket, két változóval meghívva kivételt dob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Prolog kód: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:- foreign(one_dif(?integer, ?integer), [choice_size(1)])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C kód (eleje):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#include "gprolog.h"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Bool one_dif(FIOArg *x, FIOArg *y)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long *state;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/* az állapot-mutató elkérése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state = Get_Choice_Buffer(long*);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if (Get_Choice_Counter() == 0)      /* első végrehajtás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*state = -1;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4F63-F75E-4401-B91F-762ECD220B71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7770600" cy="5759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if (!x-&gt;is_var)             /* x nem változó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if (!y-&gt;is_var)         /* y nem változó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No_More_Choice();   /* nem kell választási pont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/* siker, ha a különbség 1, egyébként meghiúsulás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return ((x-&gt;value.l - y-&gt;value.l) == -1 || 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(x-&gt;value.l - y-&gt;value.l) == 1);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else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/* y változó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y-&gt;unify = TRUE;    /* y kimenő argumentum lesz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y-&gt;value.l = x-&gt;value.l + *state;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if (*state == 1)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No_More_Choice();   /* nincs több megoldás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else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(*state = 1);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return TRUE;        /* siker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else                        /* x változó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if (!y-&gt;is_var)         /* y nem változó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else                    /* mindkét argumentum változó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Pl_Err_Instantiation();     /* kivétel dobás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return FALSE;   /* ide nem kerülhet a vezérlés */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4715-0E8A-4CC2-A658-1244FD4DDECD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GNU Prolog C interfésze I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Prolog felé irányuló hívás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Pl_Query_Begin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előkészíté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Pl_Query_Call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név, aritás, argumentumok tömbje paraméterek. Végrehajtása az első megoldást is szolgáltatja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Pl_Query_Next_Solution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a többi megoldáshoz. Visszatérési értéke: siker, meghiúsulás vagy kivétel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Pl_Get_Exception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a kivétel term elkéréséhez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Pl_Query_End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befejezés a megadott módon. Lehet teljes lezárás, vágó vagy nyitva hagyás. Utóbbi nemdeterminisztikus függvény írásakor lehet hasznos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incs lekérdezés-azonosító, minden parancs a legbelső megnyitott lekérdezésre vonatkozik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56A9-14F5-49A8-A38E-3DB26AD17C1B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GNU Prolog C interfésze IV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7770600" cy="453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Beépített Prolog kivételek kiváltására vannak függvények: pl. </a:t>
            </a: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Pl_Err_Instantiation()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Egyedi kivételek kiváltása a </a:t>
            </a: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Pl_Exec_Continuation()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függvénnyel. Ez lecseréli az aktuális célsorozatot a megadott predikátumra (pl. </a:t>
            </a: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throw/1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. Ekkor a program a C-ben futó predikátumból kilép, és a végrehajtás a megadott predikátummal folytatódik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Csak statikus szerkesztés: a Prolog kód és a C kód egyetlen futtatható állománnyá áll össze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EDFB-E474-43FB-B66B-E907119CA113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z SWI Prolog C interfés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(többnyire) Procedurális szemléletű: az eredmények egy már létrehozott, paraméterként átadott tárolóhelyre kerülne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incs „glue code”, mivel nincs automatikus típuskonverzió: a Prologból hívott C függvények minden paramétere term típusú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Minden term a létrehozásakor változó lesz. Az adattal való feltöltés történhet egyesítéssel, illetve a tárolóhely átírásával is (pl.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PL_put_integer()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Van külön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string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típus, ami tartalmazhat 0 kódértékű karaktereket is (SICStus-ban ez karakterkódok listájával oldható meg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294E-2B5F-4EC7-933E-98D963364D9B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z SWI Prolog C interfésze 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Van nemdeterminisztikus C függvény (némileg hasonlóan a GNU interfészéhez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Prolog felé irányuló hívás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L_open_query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lekérdezés megnyitása modul-azonosító, predikátum-azonosító és argumentumok alapján. Eredmény egy lekérdezés azonosító. Az argumentumoknak összefüggő memóriaterületen kell lenni. Létrehozás a 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L_new_term_refs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 függvény segítségével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L_next_solution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</a:t>
            </a:r>
            <a:r>
              <a:rPr b="0" lang="hu-HU" sz="1800" spc="-1" strike="noStrike">
                <a:solidFill>
                  <a:srgbClr val="003300"/>
                </a:solidFill>
                <a:latin typeface="Times New Roman"/>
              </a:rPr>
              <a:t>első, vagy 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következő megoldás kérése (</a:t>
            </a:r>
            <a:r>
              <a:rPr b="0" lang="hu-HU" sz="1800" spc="-1" strike="noStrike">
                <a:solidFill>
                  <a:srgbClr val="003300"/>
                </a:solidFill>
                <a:latin typeface="Times New Roman"/>
              </a:rPr>
              <a:t>siker esetén 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TRUE</a:t>
            </a:r>
            <a:r>
              <a:rPr b="0" lang="hu-HU" sz="1800" spc="-1" strike="noStrike">
                <a:solidFill>
                  <a:srgbClr val="003300"/>
                </a:solidFill>
                <a:latin typeface="Times New Roman"/>
              </a:rPr>
              <a:t>, meghiúsulás és kivétel esetén 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FALSE visszatérési érték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L_cut_query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vágó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L_close_query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lezárá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L_Exception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visszatérési értéke NULL, ha nem volt kivétel, egyébként a kivétel-term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Nincs egymásba ágyazott lekérdezés! (komoly hiányosság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80F8-F15B-4655-B401-4180F9F5027B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z SWI Prolog C interfésze I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C oldalon tetszőleges Prolog kivétel kiváltható: </a:t>
            </a: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PL_raise_exception()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függvény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Statikus és dinamikus szerkesztésre is van lehetősé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813-0952-4764-AD0D-BBCDDFDE3220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SICStus Prolog C interfés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7770600" cy="48225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Glue code automatikusan generálható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Procedurális szemlélet: a függvények a visszatérési értékükben a sikerességet jelzik</a:t>
            </a: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, az eredmény a paraméterben átadott változóba kerü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Term létrehozáskor üres lista kezdőértékű (valószínűleg ez a legolcsóbb). „Feltöltésre” külön függvények, pl.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SP_put_integer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Összetett termek létrehozásakor az argumentumokat változó argumentumszámú függvénynek kell átadni. Lehet csupa változó argumentummal is (mint a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functor/3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Saját memóriakezelő függvények a rendszer által kezelt erőforrások hatékonyabb kihasználásához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4E8-F249-4182-83E8-29F180902AE7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SICStus Prolog C interfésze 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incs nemdeterminisztikus C függvény (nem olyan nagy probléma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z argumentumok lehetnek bemenő (érték szerinti átadás) illetve kimenő (cím szerinti) típusúak. Utóbbi esetben visszatérés után egyesítés lesz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Prolog stream-ek C-ből történő írása/olvasása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Karaktertömbből termet lehet csinálni, </a:t>
            </a: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a term változóit (mélységi előfordulási sorrendben) is megkaphatjuk egy tömbb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agy egészek bájtok tömbjeként kezelhetők C oldalo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67D8-BCCD-484F-889F-D93221F7F013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SICStus Prolog C interfésze I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Prolog felé irányuló hívás: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SP_open_query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lekérdezés megnyitása predikátum-azonosító és argumentumok alapján. Eredmény egy lekérdezés azonosító. Az argumentumok </a:t>
            </a:r>
            <a:r>
              <a:rPr b="0" lang="hu-HU" sz="1800" spc="-1" strike="noStrike">
                <a:solidFill>
                  <a:srgbClr val="003300"/>
                </a:solidFill>
                <a:latin typeface="Times New Roman"/>
              </a:rPr>
              <a:t>ezen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 változó argumentumszámú függvény paraméterei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SP_next_solution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következő megoldás kérése (visszatérési érték: siker, meghiúsulás, kivétel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SP_cut_query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vágó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SP_close_query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lezárás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SP_get_exception_term()</a:t>
            </a: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: a kivétel-term elkérésére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Tetszőleges mélységben egymásba egymásba ágyazhatóak a lekérdezések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C oldalon tetszőleges Prolog kivétel kiváltható (</a:t>
            </a: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SP_raise_exception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Statikus és a dinamikus szerkesztés is van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Inicializációs és deinicializációs kódok: a C kód dinamikus betöltésekor és eltávolításakor futnak le (pl. file-ok megnyitását/lezárását végezhetik)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10BB-735A-416B-81A6-01AA0B840339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802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Van, amire a Prolog nem a legalkalmasabb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7770600" cy="41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00"/>
                </a:solidFill>
                <a:latin typeface="Times New Roman"/>
              </a:rPr>
              <a:t>Hatékonysá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00"/>
                </a:solidFill>
                <a:latin typeface="Times New Roman"/>
              </a:rPr>
              <a:t>Más programnyelvek kiegészítő szolgáltatásai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00"/>
                </a:solidFill>
                <a:latin typeface="Times New Roman"/>
              </a:rPr>
              <a:t>Kevés Prologhoz értő szakember (drágább fejlesztés és karbantartás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3300"/>
                </a:solidFill>
                <a:latin typeface="Times New Roman"/>
              </a:rPr>
              <a:t>Nem „zöldmezős” fejlesztések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szeretnénk a meglévő kód minél nagyobb részét megtartani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ha ezek nem Prologban íródtak, az új programrészek hozzáillesztéséhez eszközök kellene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326D-B2ED-4105-A195-97CD76AD895E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Példa: m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_sum/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Courier New"/>
              </a:rPr>
              <a:t>m_sum(M,S)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: Az </a:t>
            </a:r>
            <a:r>
              <a:rPr b="0" sz="2400" spc="-1" strike="noStrike">
                <a:solidFill>
                  <a:srgbClr val="003300"/>
                </a:solidFill>
                <a:latin typeface="Courier New"/>
              </a:rPr>
              <a:t>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egész számokból álló mátrix elemeinek az összege </a:t>
            </a:r>
            <a:r>
              <a:rPr b="0" sz="2400" spc="-1" strike="noStrike">
                <a:solidFill>
                  <a:srgbClr val="003300"/>
                </a:solidFill>
                <a:latin typeface="Courier New"/>
              </a:rPr>
              <a:t>S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Prolog kód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foreign(msum, m_sum(+term, [-integer]))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foreign_resource(ex, [msum])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:- load_foreign_resource(ex)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:- use_module(library(lists))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A1A7-261F-4C07-9B54-508CCE768723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7770600" cy="5759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/* ex.c */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#include &lt;sicstus/sicstus.h&g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long msum(SP_term_ref l)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term_ref t1 = SP_new_term_ref(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term_ref t2 = SP_new_term_ref(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pred_ref mp = SP_predicate("member", 2, "lists");   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S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P_qid q1, q2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long i, result = 0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put_variable(t1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put_variable(t2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q1 = SP_open_query(mp, t1, l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while (SP_next_solution(q1) == SP_SUCCESS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q2 = SP_open_query(mp, t2, t1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while (SP_next_solution(q2) == SP_SUCCESS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get_integer(t2, &amp;i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result += i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close_query(q2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close_query(q1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return resul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8BE2-018C-4B9B-8589-F0A7CE02BA64}" type="slidenum">
              <a:t>21</a:t>
            </a:fld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Példa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ist_filter/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751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list_filter(L,I)</a:t>
            </a:r>
            <a:r>
              <a:rPr b="0" sz="2200" spc="-1" strike="noStrike">
                <a:solidFill>
                  <a:srgbClr val="003300"/>
                </a:solidFill>
                <a:latin typeface="Times New Roman"/>
              </a:rPr>
              <a:t>: Az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L</a:t>
            </a:r>
            <a:r>
              <a:rPr b="0" sz="2200" spc="-1" strike="noStrike">
                <a:solidFill>
                  <a:srgbClr val="003300"/>
                </a:solidFill>
                <a:latin typeface="Times New Roman"/>
              </a:rPr>
              <a:t> lista egész típusú elemeinek listája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I</a:t>
            </a:r>
            <a:r>
              <a:rPr b="0" sz="2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3300"/>
                </a:solidFill>
                <a:latin typeface="Times New Roman"/>
              </a:rPr>
              <a:t>Prolog kód: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foreign(list_filter, list_filter(+term, [-term]))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foreign_resource(ex2, [list_filter])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:- load_foreign_resource(ex2)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E5B-7759-4188-A362-BDCFC732A3B0}" type="slidenum">
              <a:t>22</a:t>
            </a:fld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4000" y="475920"/>
            <a:ext cx="7770600" cy="5761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/* ex2.c */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/* A list egész elemeiből álló listát adja vissza. */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term_ref list_filter(SP_term_ref list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term_ref result = SP_new_term_ref(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term_ref actual = SP_new_term_ref(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term_ref head = SP_new_term_ref(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term_ref tail = SP_new_term_ref(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term_ref temp = SP_new_term_ref(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put_variable(actual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put_term(result, actual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while (SP_is_list(list)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get_list(list, head, list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if (SP_is_integer(head)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put_variable(tail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cons_list(temp, head, tail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unify(actual, temp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put_term(actual, tail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P_unify(actual, SP_new_term_ref()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  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return result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C51-A98F-45B2-968F-467E8A2653AD}" type="slidenum">
              <a:t>23</a:t>
            </a:fld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80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SICStus Prolog Visual Basic i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nterfés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770600" cy="41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Csak Prolog felé irányuló híváso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megoldások elkérése hasonló a C interfészhez: megnyitás, megoldások egyenként, lezárá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incs term típus a Basic oldal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Sztringként kell megadni a lekérdezés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z egyes változók értékét a nevük alapján lehet elkérni egész, illetve sztring (az összes többi típus esetén) alakba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kivételeket szintén sztring alakban lehet elkérni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E874-FBBF-4691-AB82-4BD9EF38A011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80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z SWI Prolog C++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interfés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770600" cy="41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C interfészre épül, burkolóosztályok a típusokhoz és függvényekhez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termekhez és atom-azonosítókhoz külön osztályo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Kivételkezelés feljettebb: Prolog kivételek C++ kivételekként jelentkeznek a másik oldal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Öröklött megszorítások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itt sincsenek egymásba ágyazott lekérdezések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csak term típusú paraméter megengedet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em lehet átírni a létrehozott termet (OO szemlélet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PlTer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(term) és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PlTermv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(termek tömbje) osztályo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AA9-D8C5-40D6-B546-14B41FABFFB0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80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z SWI Prolog C++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interfésze 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770600" cy="41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PlTer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osztályon definiálva vannak a különböző típusokat (pl.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int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,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double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,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char*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 fogadó konstruktorok, valamint az objektumot ugyanezekre a típusokra alakító konverziós operátorok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Összehasonlító operátorok a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PlTer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és int típusokka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Értékadó operátor a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PlTer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mellett több C típusra is (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long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,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double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,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char*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. Egyesítésnek felel meg az adott (esetleges konverziók utáni) termmel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Indexelő operátor (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[]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: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arg/3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Áttekinthető kó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7D5A-802B-40C1-9095-08F6F2C304FF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25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PREDICATE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makró a C++-ban definiált predikátumok-hoz. Paraméterei a predikátumnév és az aritás. A függvény törzsében az argumentumokra az A1, A2 stb. makrókkal hivatkozhatunk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REDICATE(add,3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return A3 = (long)A1 + (long)A2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lekérdezés osztály (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PlQuery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, használata szinte teljesen megegyezik a C interfészé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incsenek nemdeterminisztikus C++ predikátumok, bár nem lenne nehéz támogatni (a fejlesztők szerint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80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z SWI Prolog C++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interfésze I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877F-6D6C-4986-B914-2EF495EB4AA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25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Objektumok átadása mutatókkal: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void*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konverziós operátor kell az adott osztályon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REDICATE(make_my_object,1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   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MyClass* myobj = new MyClass(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return A1 = (void*)myobj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REDICATE(free_my_object,1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MyClass* myobj = (void*)A1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delete myobj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        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Csak statikus szerkesztés, kell a C++ linker (az SWI betöltő helyett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80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z SWI Prolog C++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interfésze IV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DD6-4D09-4AF4-9DE7-64EF2EC4F4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25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Csak Java-ból Prolog felé irányuló hívást támogat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Nincsenek egymásba ágyazott lekérdezések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Absztrakt </a:t>
            </a:r>
            <a:r>
              <a:rPr b="0" sz="2300" spc="-1" strike="noStrike">
                <a:solidFill>
                  <a:srgbClr val="003300"/>
                </a:solidFill>
                <a:latin typeface="Courier New"/>
              </a:rPr>
              <a:t>Term</a:t>
            </a: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 osztály, a leszármazottak az egyes Prolog típusoknak megfelelő osztályok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Lekérdezéshez a </a:t>
            </a:r>
            <a:r>
              <a:rPr b="0" sz="2300" spc="-1" strike="noStrike">
                <a:solidFill>
                  <a:srgbClr val="003300"/>
                </a:solidFill>
                <a:latin typeface="Courier New"/>
              </a:rPr>
              <a:t>Query</a:t>
            </a: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 osztályt kell példányosítani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Ez az osztály megvalósítja a Java java.util.Enumeration interfészét, megoldások elkérése ennek segítségével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hasMoreElements()</a:t>
            </a: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: van-e még megoldás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nextElement()</a:t>
            </a: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: elkérjük a megoldást. Az eredmény egy java.util.Hashtable objektum, aminek kulcsai a lekérdezés változói (változó objektumok), értékei pedig az egyes változók értékei (</a:t>
            </a:r>
            <a:r>
              <a:rPr b="0" sz="2300" spc="-1" strike="noStrike">
                <a:solidFill>
                  <a:srgbClr val="003300"/>
                </a:solidFill>
                <a:latin typeface="Courier New"/>
              </a:rPr>
              <a:t>Term</a:t>
            </a: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 objektumok) a végrehajtás után.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4000" y="622440"/>
            <a:ext cx="8080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z SWI Prolog Java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sz="3200" spc="-1" strike="noStrike">
                <a:solidFill>
                  <a:srgbClr val="000099"/>
                </a:solidFill>
                <a:latin typeface="Arial"/>
              </a:rPr>
              <a:t>interfés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ADE7-9A28-4882-AE33-236F562C36C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620640"/>
            <a:ext cx="80802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99"/>
                </a:solidFill>
                <a:latin typeface="Arial"/>
              </a:rPr>
              <a:t>Különböző nyelvű programok együttműködése</a:t>
            </a:r>
            <a:endParaRPr b="0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7770600" cy="4680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3300"/>
                </a:solidFill>
                <a:latin typeface="Times New Roman"/>
              </a:rPr>
              <a:t>Nincs olyan nyelv, ami – akár egy rendszeren belül is – minden feladatra a legalkalmasabb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3300"/>
                </a:solidFill>
                <a:latin typeface="Times New Roman"/>
              </a:rPr>
              <a:t>Igények szerteágazóak, rengeteg különböző típusú funkció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3300"/>
                </a:solidFill>
                <a:latin typeface="Times New Roman"/>
              </a:rPr>
              <a:t>Nem megfelelő nyelv választása egy adott feladathoz növeli  a fejlesztési­ és karbantartási költségeket, és mindemellett a végeredmény sem fog a kívánt hatásfokkal működni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3300"/>
                </a:solidFill>
                <a:latin typeface="Times New Roman"/>
              </a:rPr>
              <a:t>Érdemes minden részfeladathoz vagy modulhoz külön kiválasztani a legalkalmasabb nyelve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3300"/>
                </a:solidFill>
                <a:latin typeface="Times New Roman"/>
              </a:rPr>
              <a:t>Ezeknek a programrészeknek legtöbbször valamilyen szinten együtt kell működniük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3300"/>
                </a:solidFill>
                <a:latin typeface="Times New Roman"/>
              </a:rPr>
              <a:t>Ehhez szükség van olyan interfészekre, ami a különböző programnyelven íródott modulok között biztosítanak hívási felületet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3300"/>
                </a:solidFill>
                <a:latin typeface="Times New Roman"/>
              </a:rPr>
              <a:t>Elterjedt Prolog rendszerek tartalmaznak eszközöket az összekapcsoláshoz (elengedhetetlen a sikerhez)</a:t>
            </a:r>
            <a:endParaRPr b="0" lang="en-US" sz="2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F48-8C78-4B3E-A66E-37C72DF88BFE}" type="slidenum">
              <a:t>3</a:t>
            </a:fld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Példa: kiírja az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[1,2,3]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lista elemei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Variable X = new Variable(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List L = new List(1,2,3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Term args[] = {X, L}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Query q = new Query(new Atom("member"), args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while (q.hasMoreElements())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Hashtable binding = (Hashtable) q.nextElement(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Term t = (Term) binding.get(X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System.out.println(t);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Kényelmes konstruktorok 10 argumentumi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Prolog oldalon keletkezett kivételek Java kivételekké alakulnak (mint a C++ interfésznél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4000" y="622440"/>
            <a:ext cx="8080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500" spc="-1" strike="noStrike">
                <a:solidFill>
                  <a:srgbClr val="000099"/>
                </a:solidFill>
                <a:latin typeface="Arial"/>
              </a:rPr>
              <a:t>Az SWI Prolog Java interfésze II.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366-C664-43C4-A00A-DA1360072E1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Prolog és Java kód egy processzb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Kétirányú interfész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Egymásba ágyazott lekérdezése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(szinte) Tetszőleges Java metódus meghívható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metódus paramétereinek típusa a hívást végző predikátumban (</a:t>
            </a: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jasper_call/4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 adható meg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2952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29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jasper_call(JVM,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29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method('java/lang/Integer', 'toString', [static]),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29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int_to_chars(+integer, [-chars]),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29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int_to_chars(2004, N)),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295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84000" y="622440"/>
            <a:ext cx="8080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z SICStus Prolog Jasper interfés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8297-CFCE-419A-A055-C4B182CA33F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z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SPTer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osztály a C interfész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SP_term_ref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burkolóosztálya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Jasper át tudja írni a term-objektum belső azonosítójá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incsenek a Prolog típusoknak megfelelő osztályok. Csak az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SPTer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osztály van (nem OO szemléletű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Átmenet a procedurális és a funkcionális megközelítés között (pl. procedurális: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getArg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,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getList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Karaktertömbbel adott term termmé történő átalakításakor a változónév-változó párokat is megkaphatjuk egy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java.util.Map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objektumban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em támogatja a nagy egészek átadását (a Java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BigInteger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osztálya kínálja magát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84000" y="622440"/>
            <a:ext cx="8080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 SICStus Prolog Jasper interfésze 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131A-34AF-47BD-B0AF-B8A84D3B888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3300"/>
                </a:solidFill>
                <a:latin typeface="Times New Roman"/>
              </a:rPr>
              <a:t>Prolog felé irányuló hívá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Tetszőleges mélységben egymásba ágyazható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Megnyitás a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SICStus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objektum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openQuery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metódusával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sztringként: </a:t>
            </a:r>
            <a:r>
              <a:rPr b="0" sz="1900" spc="-1" strike="noStrike">
                <a:solidFill>
                  <a:srgbClr val="003300"/>
                </a:solidFill>
                <a:latin typeface="Courier New"/>
              </a:rPr>
              <a:t>java.util.Map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-be kapjuk a megoldásokat, változónév kulcs, term-objektum érték párok formájába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strukturáltan: modulnév, predikátumnév, argumentumok tömbj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9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egy SPQuery objektumot ad vissza. Ennek metódusai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next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</a:t>
            </a: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első-, vagy 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következő megoldás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cut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vágó (az eredmények megmaradnak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close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visszaáll a megnyitás előtti verem-állapo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4000" y="622440"/>
            <a:ext cx="8080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 SICStus Prolog Jasper interfésze I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A23C-7495-4D7A-BC38-EDD47D43FB5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Java objektumok kezelése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létrehozása Prologból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két oldal közötti átadás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Java oldalon tárolódnak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azonosítóval lehet hivatkozni rájuk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példány-metódus meghívása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Több szálból indított lekérdezése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A Prolognak egy verme van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Az előbb indított lekérdezés lezárhatja a később indítottat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Kivételek átalakulnak a másik oldal kivételévé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Elvileg tökéletes megoldás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Java kivétel Prolog oldalon a kivétel objektum azonosítója lesz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A kivételről információt (pl. szöveg) csak visszahívással szerezhetünk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Sok esetben ez már nem sikerül, mert a Java környezet összeomlott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684000" y="622440"/>
            <a:ext cx="8080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A SICStus Prolog Jasper interfésze IV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4AD0-5E6B-4660-B3D0-648D6E3994B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két oldal külön processzben fut, socket-en keresztül kommunkikálva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Futhat a két oldal külön gépen (pl. Java oldal egy böngészőben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Megadható, hogy milyen kliens számítógépek (IP cím vagy név alapján) használhatják a Prolog kiszolgáló szolgáltatásait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Jelenleg csak a Prolog felé irányuló hívásokat támoga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incs visszalépés, csak az első megoldást lehet elkérni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Java oldali termek Java oldalon tárolódnak. Az absztrakt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Ter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osztály leszármazottai az egyes Prolog típusoknak megfelelő osztályok (OO szemlélet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684000" y="622440"/>
            <a:ext cx="8080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 SICStus </a:t>
            </a: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PrologBeans interfés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61B-EFE5-4499-AEDB-BAFC584400F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hívást sztringként lehet megadni, az argumentumokat egy változónév-érték párokat tartalmazó leképezés objektum (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Bindings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 segítségével lehet közölni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z egyes leképezések megadásához különböző típusok is használhatók: egész, lebegőpontos, sztring (karakterkódok listája illetve atom) és általános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Term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objektum is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megoldás a leképezés osztály egy leszármazott osztályának (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QueryAnswer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) segítségével nyerhető ki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80200" cy="58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 SICStus </a:t>
            </a: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PrologBeans interfésze 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B9AB-6A67-47F1-A092-2E365BE620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Prolog kód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main:-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register_query(evaluate(C,P), my_predicate(C,P)),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tart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my_predicate(Chars, P):-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read_from_chars(Chars, X),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P is X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...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Java kód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Bindings bindings = new Bindings().bind("E", "2+3."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QueryAnswer answer =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ession.executeQuery("evaluate(E,R)", bindings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Term result = answer.getValue("R"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if (result != null)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System.out.println(result)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... 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684000" y="622440"/>
            <a:ext cx="80802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Példa: evaluate/2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98C-E663-4333-97FD-C0BF4D4EBA8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Az egész rendszer Java nyelven íródott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GNU Prolog for Java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Moksa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PrologCafé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Times New Roman"/>
              </a:rPr>
              <a:t>stb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A Prolog motor Java osztályok segítségével ágyazható be a Java alkalmazásba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Jól integrálható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Nagymértékben OO szemléletű, mivel a fejlesztéskor nem kellett semmihez alkalmazkodni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A „nagy” Prolog rendszerekhez képest kevés kiegészítő modul illetve könyvtár (nagy hátrány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84000" y="620640"/>
            <a:ext cx="80802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Java alapú Prolog rendszerek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C55A-6918-43B0-B743-2CC26E6CC29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Saját készítésű Java interfész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két oldal külön processzben fut, kapcsolat socket-en keresztü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A Jasper-rel próbál kompatibilis lenni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Oda-vissza irányú hívások, tetszőleges mélységben egymásba ágyazva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Tetszőleges mélységben egymásba ágyazható lekérdezése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agy egészek átvitele mindkét irányban (Java </a:t>
            </a:r>
            <a:r>
              <a:rPr b="0" sz="2200" spc="-1" strike="noStrike">
                <a:solidFill>
                  <a:srgbClr val="003300"/>
                </a:solidFill>
                <a:latin typeface="Courier New"/>
              </a:rPr>
              <a:t>BigInteger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segítségével)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84000" y="620640"/>
            <a:ext cx="80802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Sofia rendsz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992-8B4A-4BAA-837F-C3DF8F72C80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80200" cy="6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Prolog külső nyelvi kapcsolata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844640"/>
            <a:ext cx="7770600" cy="41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Elterjedt imperatív nyelvek és a Prolog közti intefészekről lesz szó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Az egyik nyelvből meg tudjuk hívni a másik oldal egy eljárását/függvényét/predikátumá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Adatokat kell átadni a két oldal között (pl. a C felé)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Term típust kap a függvény: meg lehet kérdezni, hogy egész-e, el lehet kérni az értékét, stb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Előre specifikált típust kap (pl. int): a konverzióról, ellenőrzésről 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a „glue code” gondoskodik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EB15-BF6D-487E-B030-8562F105826C}" type="slidenum">
              <a:t>4</a:t>
            </a:fld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Kivételek oda-vissza átalalkulnak a másik oldal kivételévé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Java kivételek esetén a kivétel-objektum azonosítója mellett a kivétel összes jellemzője is átmegy: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862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a kivétel osztályának neve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862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szöveges reprezentációja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862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a teljes stacktrace Prolog lista alakban (osztálynév, metódusnév stb.)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Egy gépen a hívások ideje egy nagyságrenddel lassabb a Jasper-nél (a taszkváltások miatt)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300" spc="-1" strike="noStrike">
                <a:solidFill>
                  <a:srgbClr val="003300"/>
                </a:solidFill>
                <a:latin typeface="Times New Roman"/>
              </a:rPr>
              <a:t>A hívások adminisztrációs költsége többnyire elhanyagolható a futási idő mellett, emiatt a sebességbeli hátrány sem lesz számottevő</a:t>
            </a:r>
            <a:endParaRPr b="0" lang="en-US" sz="23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84000" y="620640"/>
            <a:ext cx="80802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Sofia rendszer 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2673-DFFF-4FCE-A0D8-3EEAFDBE2DF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29970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3300"/>
                </a:solidFill>
                <a:latin typeface="Times New Roman"/>
              </a:rPr>
              <a:t>Köszönöm a figyelmet!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DFFE-3C92-40BE-84FF-C689841018A4}" type="slidenum">
              <a:t>41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80802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99"/>
                </a:solidFill>
                <a:latin typeface="Arial"/>
              </a:rPr>
              <a:t>Egy interfész további jellemzői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770600" cy="4464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Adatok leképezése: „glue code”-dal kell-e foglalkozni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Szemlélet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procedurális: Az adott (pl. C) függvény az argumentumként kapott változóban szolgáltatja az eredményt. A visszatérési értékben lehet a sikerességet/hibát jelezn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funkcionális: A függvény a visszatérési értékében szolgáltatja az eredményt. Hibát (amennyiben nincsenek kivételek az adott nyelvben) lehet valamilyen érvénytelen értékkel jelezni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Termek létrehozása alulról felfelé, vagy felülről lefelé?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Hívási irányo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Kivételkezelé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Fordítás, szerkesztés, futtatás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0571-2A11-44ED-9960-FABF6297D88D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480"/>
            <a:ext cx="80805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Kényelmi szolgáltatások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Nemdeterminizmus az imperatív oldalo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Megoldható egy burkoló-predikátum segítségé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% pred(Param, St0, St1): C-ben van megvalósítva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nd_pred(Param):-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nd_pred(Param, initial).</a:t>
            </a:r>
            <a:r>
              <a:rPr b="0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nd_pred(Param, St0):-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pred(Param, St0, St1),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( S1 == completed -&gt; true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% nincs több megoldás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; true</a:t>
            </a:r>
            <a:r>
              <a:rPr b="0" lang="hu-HU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% még újrahívható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3300"/>
                </a:solidFill>
                <a:latin typeface="Courier New"/>
              </a:rPr>
              <a:t>; nd_pred(Param, St1)</a:t>
            </a:r>
            <a:r>
              <a:rPr b="0" lang="hu-HU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% visszalépéskor az új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800" spc="-1" strike="noStrike">
                <a:solidFill>
                  <a:srgbClr val="003300"/>
                </a:solidFill>
                <a:latin typeface="Courier New"/>
              </a:rPr>
              <a:t>).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hu-HU" sz="1600" spc="-1" strike="noStrike">
                <a:solidFill>
                  <a:srgbClr val="003300"/>
                </a:solidFill>
                <a:latin typeface="Courier New"/>
              </a:rPr>
              <a:t>% állapottal hívjuk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AB5-9A73-485A-AE57-CB17FF5C59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80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C interfészek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39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Szinte minden Prolog rendszerhez létezi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GNU, SWI, SICStus interfészeiről lesz szó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Közös képességek/lehetőségek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két irányú hívások lehetősége, korlátlan mélységben egymásba ágyazva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Prolog felé irányuló (nemdeterminisztikus) hívások esetén az eredmények egyesével való visszaadása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C-ből Prolog kivétel dobása, Prologban keletkezett kivétel fogadása C oldalon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3300"/>
                </a:solidFill>
                <a:latin typeface="Times New Roman"/>
              </a:rPr>
              <a:t>Termek kezelése: azonosítóval (egész szám), pl. egy belső - Prolog verembe mutató mutatókat tartalmazó – tömb indexe (SICStus)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3300"/>
                </a:solidFill>
                <a:latin typeface="Times New Roman"/>
              </a:rPr>
              <a:t>Atomok kezelése: atomtáblába mutató tömbindexszel (hatékonyság). Karaktertömbként elkérve az atomot át lehet írni az atomtáblát (!), mivel nem készít másolatot a rendszer. Erre vigyázni kell.</a:t>
            </a:r>
            <a:endParaRPr b="0" lang="en-US" sz="19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21E-7160-4EE0-88AF-4EE221A8D7E5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80802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GNU Prolog C interfész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0600" cy="439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Funkcionális megközelítés: </a:t>
            </a: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a függvények 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visszatérési érték</a:t>
            </a: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e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 többnyire maga az eredmény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„</a:t>
            </a: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Glue code” automatikusan generálható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Term létrehozásakor a típust meg kell adni. Minden típushoz külön létrehozó függvény tartozik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00"/>
                </a:solidFill>
                <a:latin typeface="Times New Roman"/>
              </a:rPr>
              <a:t>Lehet nemdeterminisztikus predikátumot C-ben írni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Fordítási időben meg kell adni az állapot tárolásához szükséges hely nagyságát (gépi szó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Get_Choice_Buffer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az állapotot tároló címet adja vissza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Get_Choice_Counter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a visszalépések eddigi száma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3300"/>
                </a:solidFill>
                <a:latin typeface="Courier New"/>
              </a:rPr>
              <a:t>No_More_Choice()</a:t>
            </a:r>
            <a:r>
              <a:rPr b="0" sz="2000" spc="-1" strike="noStrike">
                <a:solidFill>
                  <a:srgbClr val="003300"/>
                </a:solidFill>
                <a:latin typeface="Times New Roman"/>
              </a:rPr>
              <a:t>: választási pont törlése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F30B-F1B3-4FBF-B9D6-213F5136A49C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80200" cy="6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99"/>
                </a:solidFill>
                <a:latin typeface="Arial"/>
              </a:rPr>
              <a:t>A GNU Prolog C interfésze II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04000" cy="4751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00"/>
                </a:solidFill>
                <a:latin typeface="Times New Roman"/>
              </a:rPr>
              <a:t>Megadható a paraméterek módja: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bemenő: érték szerinti paraméterátadás (pl. </a:t>
            </a:r>
            <a:r>
              <a:rPr b="0" lang="hu-HU" sz="2000" spc="-1" strike="noStrike">
                <a:solidFill>
                  <a:srgbClr val="003300"/>
                </a:solidFill>
                <a:latin typeface="Courier New"/>
              </a:rPr>
              <a:t>int</a:t>
            </a: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). A behelyettesítettséget, a típust és a tartományt (pl. pozitív egész) a rendszer ellenőrzi, és adott esetben kivételt dob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kimenő: cím szerinti paraméterátadás (pl. </a:t>
            </a:r>
            <a:r>
              <a:rPr b="0" lang="hu-HU" sz="2000" spc="-1" strike="noStrike">
                <a:solidFill>
                  <a:srgbClr val="003300"/>
                </a:solidFill>
                <a:latin typeface="Courier New"/>
              </a:rPr>
              <a:t>int*</a:t>
            </a: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3300"/>
                </a:solidFill>
                <a:latin typeface="Times New Roman"/>
              </a:rPr>
              <a:t>mindkettő egyszerre (kényelmi szolgáltatás): egy előre definiált struktúra címét kapja meg a függvény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typedef struct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Bool is_var;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400" spc="-1" strike="noStrike">
                <a:solidFill>
                  <a:srgbClr val="003300"/>
                </a:solidFill>
                <a:latin typeface="Courier New"/>
              </a:rPr>
              <a:t>/* híváskor változó volt-e */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Bool unify;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400" spc="-1" strike="noStrike">
                <a:solidFill>
                  <a:srgbClr val="003300"/>
                </a:solidFill>
                <a:latin typeface="Courier New"/>
              </a:rPr>
              <a:t>/* visszatéréskor egyesítsen-e */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union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3300"/>
                </a:solidFill>
                <a:latin typeface="Courier New"/>
              </a:rPr>
              <a:t>/* </a:t>
            </a:r>
            <a:r>
              <a:rPr b="0" lang="hu-HU" sz="1400" spc="-1" strike="noStrike">
                <a:solidFill>
                  <a:srgbClr val="003300"/>
                </a:solidFill>
                <a:latin typeface="Courier New"/>
              </a:rPr>
              <a:t>a típus a specifikációból derül ki */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long l;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sz="1400" spc="-1" strike="noStrike">
                <a:solidFill>
                  <a:srgbClr val="003300"/>
                </a:solidFill>
                <a:latin typeface="Courier New"/>
              </a:rPr>
              <a:t>/* egész v. term (azonosító) */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char *s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double d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Courier New"/>
              </a:rPr>
              <a:t>  </a:t>
            </a: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} value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3300"/>
                </a:solidFill>
                <a:latin typeface="Courier New"/>
              </a:rPr>
              <a:t>} FIOArg;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B12-ECAF-4145-A125-11FCCF4484D8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ener Péter</cp:lastModifiedBy>
  <dcterms:modified xsi:type="dcterms:W3CDTF">2004-10-19T00:26:35Z</dcterms:modified>
  <cp:revision>131</cp:revision>
  <dc:subject/>
  <dc:title>PowerPoint bemutató</dc:title>
</cp:coreProperties>
</file>