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F6C-3B09-41CB-935E-58272A03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650-F986-4B86-8E0C-3B53800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3E3-7A44-4E41-ABF6-F4CC7941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792-4C61-4567-BE86-47997C41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AF87-240C-4430-A879-CA6ADC79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EECB-3732-4C3E-9E00-88BC0FC5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A0CC-C085-46A9-B7B5-9483FCE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91ED-65A4-43A2-9471-6408540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754-53D8-425A-AF33-D31B6266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69C4-9ABC-4F07-8931-17618DB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125-B40B-4824-B9AE-340A4EA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315-ECDB-4AD7-8BDE-FA9A9569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D6A7-A90D-4664-AF95-D4903E0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578C-99E0-48FA-8F14-FE52AEA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06FE-022F-4856-99FC-47C4E93E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806D-F78F-4ADE-959E-9D4B91A7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FF8-9D53-45E1-AC0D-EA985633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807-F5B4-4214-AB2D-A43CB44A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F80-E221-4385-B7A6-962E6C0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8F5-C175-43D7-BB0E-90046C1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436-0F4E-4FFF-A322-8A3F510D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4E1-F692-4573-9889-E9CC9C8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911-C7F3-4E5D-B9A0-C3AF8BF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2EE-14FD-404B-B14E-7920287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4B11-EF62-430B-B080-51FE9DB95DF9}" type="datetime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D8F6-3679-4BD3-89AB-0A47EB41BFD7}" type="slidenum">
              <a:rPr b="0" lang="hu-HU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6C3-EECF-42AD-9E60-ECB4050FB24F}" type="datetime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9EB3-1A6A-481C-897E-5427F33C4200}" type="slidenum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407360" cy="12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olog </a:t>
            </a:r>
            <a:r>
              <a:rPr b="0" lang="hu-HU" sz="4400" spc="-1" strike="noStrike">
                <a:solidFill>
                  <a:srgbClr val="000099"/>
                </a:solidFill>
                <a:latin typeface="Arial"/>
              </a:rPr>
              <a:t>rendszerek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hu-HU" sz="4400" spc="-1" strike="noStrike">
                <a:solidFill>
                  <a:srgbClr val="000099"/>
                </a:solidFill>
                <a:latin typeface="Arial"/>
              </a:rPr>
              <a:t>ülső nyelvi interfésze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14920" y="5445000"/>
            <a:ext cx="352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iener P</a:t>
            </a: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é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p131@hszk.bme.h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élda: one_dif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one_dif(X, Y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X és Y két egész szám, különbségük abszolútértéke 1. Két bemenő argumentummal meghívva ellenőrző jellegű predikátum, egy bemenő argumentummal meghívva visszaadja a szomszédos egészeket, két változóval meghívva kivételt dob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:- foreign(one_dif(?integer, ?integer), [choice_size(1)])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C kód (eleje)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#include "gprolog.h"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Bool one_dif(FIOArg *x, FIOArg *y)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long *state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az állapot-mutató elkérése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state = Get_Choice_Buffer(long*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Get_Choice_Counter() == 0)      /* első végrehajt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*state = -1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48D-DA4F-49DC-AC9D-ED0D7ECBF0AA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770600" cy="57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x-&gt;is_var)             /* x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y-&gt;is_var)         /* y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No_More_Choice();   /* nem kell választási pont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siker, ha a különbség 1, egyébként meghiúsul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((x-&gt;value.l - y-&gt;value.l) == -1 ||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(x-&gt;value.l - y-&gt;value.l) == 1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y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y-&gt;unify = TRUE;    /* y kimenő argumentum lesz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y-&gt;value.l = x-&gt;value.l + *state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*state == 1)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No_More_Choice();   /* nincs több megold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(*state = 1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TRUE;        /* siker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                        /* x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y-&gt;is_var)         /* y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                    /* mindkét argumentu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Pl_Err_Instantiation();     /* kivétel dob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FALSE;   /* ide nem kerülhet a vezérlé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20D-07B9-4B04-802A-8DF164AA5C67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Begi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előkészíté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Call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név, aritás, argumentumok tömbje paraméterek. Végrehajtása az első megoldást is szolgáltatja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Next_Solutio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többi megoldáshoz. Visszatérési értéke: siker, meghiúsulás vagy kivétel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Get_Exceptio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kivétel term elkéréséhez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End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befejezés a megadott módon. Lehet teljes lezárás, vágó vagy nyitva hagyás. Utóbbi nemdeterminisztikus függvény írásakor lehet haszno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lekérdezés-azonosító, minden parancs a legbelső megnyitott lekérdezésre vonatkoz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02E-3950-4B9E-8A6D-FB49B00D42EA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7706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Beépített Prolog kivételek kiváltására vannak függvények: pl.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Err_Instantia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Egyedi kivételek kiváltása a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Exec_Continua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függvénnyel. Ez lecseréli az aktuális célsorozatot a megadott predikátumra (pl.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throw/1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 Ekkor a program a C-ben futó predikátumból kilép, és a végrehajtás a megadott predikátummal folytatód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statikus szerkesztés: a Prolog kód és a C kód egyetlen futtatható állománnyá áll össz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7EE-E3A7-42B2-A929-02E76AA75D43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(többnyire) Procedurális szemléletű: az eredmények egy már létrehozott, paraméterként átadott tárolóhelyre kerüln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„glue code”, mivel nincs automatikus típuskonverzió: a Prologból hívott C függvények minden paramétere term típusú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inden term a létrehozásakor változó lesz. Az adattal való feltöltés történhet egyesítéssel, illetve a tárolóhely átírásával is (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_put_integer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an külön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trin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típus, ami tartalmazhat 0 kódértékű karaktereket is (SICStus-ban ez karakterkódok listájával oldható meg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BC3-E14E-4EC8-BE35-A5B52A26FE09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an nemdeterminisztikus C függvény (némileg hasonlóan a GNU interfészéhez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open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kérdezés megnyitása modul-azonosító, predikátum-azonosító és argumentumok alapján. Eredmény egy lekérdezés azonosító. Az argumentumoknak összefüggő memóriaterületen kell lenni. Létrehozás a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new_term_refs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 függvény segítségével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next_solu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első, vagy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következő megoldás kérése (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siker esetén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TRUE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, meghiúsulás és kivétel esetén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FALSE visszatérési érték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cut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ág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close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zárá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Excep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isszatérési értéke NULL, ha nem volt kivétel, egyébként a kivétel-term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Nincs egymásba ágyazott lekérdezés! (komoly hiányosság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416-CD9B-4C4A-9B3D-AC5055AE64B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 oldalon tetszőleges Prolog kivétel kiváltható: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raise_excep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függvén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tatikus és dinamikus szerkesztésre is van lehetősé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313-C69A-4FB2-B985-218CE575DFD2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70600" cy="4822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Glue code automatikusan generál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cedurális szemlélet: a függvények a visszatérési értékükben a sikerességet jelzik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, az eredmény a paraméterben átadott változóba kerü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rm létrehozáskor üres lista kezdőértékű (valószínűleg ez a legolcsóbb). „Feltöltésre” külön függvények, 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_put_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sszetett termek létrehozásakor az argumentumokat változó argumentumszámú függvénynek kell átadni. Lehet csupa változó argumentummal is (mint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functor/3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aját memóriakezelő függvények a rendszer által kezelt erőforrások hatékonyabb kihasználásáho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6B0-CACF-4A11-864D-900DC511A4E4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nemdeterminisztikus C függvény (nem olyan nagy probléma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argumentumok lehetnek bemenő (érték szerinti átadás) illetve kimenő (cím szerinti) típusúak. Utóbbi esetben visszatérés után egyesítés les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stream-ek C-ből történő írása/olvasás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araktertömbből termet lehet csinálni, 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 term változóit (mélységi előfordulási sorrendben) is megkaphatjuk egy tömbb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agy egészek bájtok tömbjeként kezelhetők C oldal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CC2-EE7D-4D84-8FED-DDF5B13EED20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open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kérdezés megnyitása predikátum-azonosító és argumentumok alapján. Eredmény egy lekérdezés azonosító. Az argumentumok 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ezen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 változó argumentumszámú függvény paraméterei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next_solu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következő megoldás kérése (visszatérési érték: siker, meghiúsulás, kivétel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cut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ág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close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zárá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get_exception_term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a kivétel-term elkérésé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Tetszőleges mélységben egymásba egymásba ágyazhatóak a lekérdezések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C oldalon tetszőleges Prolog kivétel kiváltható (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SP_raise_exception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tatikus és a dinamikus szerkesztés is va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Inicializációs és deinicializációs kódok: a C kód dinamikus betöltésekor és eltávolításakor futnak le (pl. file-ok megnyitását/lezárását végezhetik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E79-F561-463C-A4D1-6972D18D9024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Van, amire a Prolog nem a legalkalmasab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Hatékonysá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Más programnyelvek kiegészítő szolgáltatása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Kevés Prologhoz értő szakember (drágább fejlesztés és karbantartás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Nem „zöldmezős” fejlesztés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eretnénk a meglévő kód minél nagyobb részét megtarta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ha ezek nem Prologban íródtak, az új programrészek hozzáillesztéséhez eszközök kellen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691-82FE-4431-B25D-F5D4594D640E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élda: 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_sum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m_sum(M,S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: Az </a:t>
            </a: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egész számokból álló mátrix elemeinek az összege </a:t>
            </a: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(msum, m_sum(+term, [-integer]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_resource(ex, [msum]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load_foreign_resource(ex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use_module(library(lists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66B-D5A7-48FD-98E3-EC5AA9D34E5D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770600" cy="57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/* ex.c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#include &lt;sicstus/sicstus.h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msum(SP_term_ref l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1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2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red_ref mp = SP_predicate("member", 2, "lists");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P_qid q1, q2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i, result = 0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2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1 = SP_open_query(mp, t1, 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next_solution(q1) == SP_SUCCES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2 = SP_open_query(mp, t2, t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next_solution(q2) == SP_SUCCES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get_integer(t2, &amp;i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sult += i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lose_query(q2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lose_query(q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453-092E-4286-A790-38EF5E01536D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éld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st_filter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ist_filter(L,I)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: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 lista egész típusú elemeinek listáj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I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(list_filter, list_filter(+term, [-term]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_resource(ex2, [list_filter]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load_foreign_resource(ex2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20E-C0B7-4B60-8093-A99532D32A4D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7770600" cy="576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/* ex2.c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/* A list egész elemeiből álló listát adja vissza.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list_filter(SP_term_ref lis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result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actual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head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ail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emp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actua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term(result, actua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is_list(list)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get_list(list, head, list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f (SP_is_integer(head)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ons_list(temp, head, 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unify(actual, temp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term(actual, 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unify(actual, SP_new_term_ref()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3AB-D935-4A53-8328-C65D45677C45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SICStus Prolog Visual Basic i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Prolog felé irányuló hívás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goldások elkérése hasonló a C interfészhez: megnyitás, megoldások egyenként, lezárá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term típus a Basic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ztringként kell megadni a lekérdezés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egyes változók értékét a nevük alapján lehet elkérni egész, illetve sztring (az összes többi típus esetén) alakba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ivételeket szintén sztring alakban lehet elké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321-BAFA-42F9-AFB4-DD4716D50556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C interfészre épül, burkolóosztályok a típusokhoz és függvényekhe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termekhez és atom-azonosítókhoz külön osztál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ivételkezelés feljettebb: Prolog kivételek C++ kivételekként jelentkeznek a másik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röklött megszorításo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itt sincsenek egymásba ágyazott lekérdezése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csak term típusú paraméter megengedet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 lehet átírni a létrehozott termet (OO szemléle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(term) és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v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(termek tömbje) osztál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9FB-6105-4A2B-BDCD-B0292CB3DB71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on definiálva vannak a különböző típusokat (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doubl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char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fogadó konstruktorok, valamint az objektumot ugyanezekre a típusokra alakító konverziós operátoro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sszehasonlító operátorok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és int típusokka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Értékadó operátor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ellett több C típusra is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on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doubl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char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 Egyesítésnek felel meg az adott (esetleges konverziók utáni) termme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Indexelő operátor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[]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arg/3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Áttekinthető kó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434-7817-4269-8FBA-0CBA83A1C456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REDICAT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akró a C++-ban definiált predikátumok-hoz. Paraméterei a predikátumnév és az aritás. A függvény törzsében az argumentumokra az A1, A2 stb. makrókkal hivatkozhatun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add,3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A3 = (long)A1 + (long)A2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lekérdezés osztály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Query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, használata szinte teljesen megegyezik a C interfészé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enek nemdeterminisztikus C++ predikátumok, bár nem lenne nehéz támogatni (a fejlesztők szerint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B21-01C9-403D-ABB6-EEF4163351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Objektumok átadása mutatókkal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void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konverziós operátor kell az adott osztályon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make_my_object,1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MyClass* myobj = new MyClass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A1 = (void*)myobj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free_my_object,1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MyClass* myobj = (void*)A1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delete myobj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statikus szerkesztés, kell a C++ linker (az SWI betöltő helyet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7DD-C411-4EB6-A00F-5B43D912DD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Csak Java-ból Prolog felé irányuló hívást támogat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Nincsenek egymásba ágyazott lekérdezések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bsztrakt 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sztály, a leszármazottak az egyes Prolog típusoknak megfelelő osztályok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Lekérdezéshez a 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Query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sztályt kell példányosítani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Ez az osztály megvalósítja a Java java.util.Enumeration interfészét, megoldások elkérése ennek segítségével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hasMoreElements()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: van-e még megoldás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nextElement()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: elkérjük a megoldást. Az eredmény egy java.util.Hashtable objektum, aminek kulcsai a lekérdezés változói (változó objektumok), értékei pedig az egyes változók értékei (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bjektumok) a végrehajtás után.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Java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D71-5406-4EB7-A247-9D422A3AAD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99"/>
                </a:solidFill>
                <a:latin typeface="Arial"/>
              </a:rPr>
              <a:t>Különböző nyelvű programok együttműködés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70600" cy="468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Nincs olyan nyelv, ami – akár egy rendszeren belül is – minden feladatra a legalkalmasabb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Igények szerteágazóak, rengeteg különböző típusú funkció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Nem megfelelő nyelv választása egy adott feladathoz növeli  a fejlesztési­ és karbantartási költségeket, és mindemellett a végeredmény sem fog a kívánt hatásfokkal működni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Érdemes minden részfeladathoz vagy modulhoz külön kiválasztani a legalkalmasabb nyelve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zeknek a programrészeknek legtöbbször valamilyen szinten együtt kell működniük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hhez szükség van olyan interfészekre, ami a különböző programnyelven íródott modulok között biztosítanak hívási felülete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lterjedt Prolog rendszerek tartalmaznak eszközöket az összekapcsoláshoz (elengedhetetlen a sikerhez)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FC1-DBE2-4ADD-9425-F4E4C72CB669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élda: kiírja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[1,2,3]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lista eleme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Variable X = new Variable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List L = new List(1,2,3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Term args[] = {X, L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Query q = new Query(new Atom("member"), args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while (q.hasMoreElements()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Hashtable binding = (Hashtable) q.nextElement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Term t = (Term) binding.get(X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ystem.out.println(t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ényelmes konstruktorok 10 argumentumi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Prolog oldalon keletkezett kivételek Java kivételekké alakulnak (mint a C++ interfészné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500" spc="-1" strike="noStrike">
                <a:solidFill>
                  <a:srgbClr val="000099"/>
                </a:solidFill>
                <a:latin typeface="Arial"/>
              </a:rPr>
              <a:t>Az SWI Prolog Java interfésze II.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1FA-4C7B-42A3-B2B5-2AE02B8F918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és Java kód egy processzb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étirányú interfés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Egymásba ágyazott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(szinte) Tetszőleges Java metódus meghív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tódus paramétereinek típusa a hívást végző predikátumban (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jasper_call/4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adható meg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jasper_call(JVM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ethod('java/lang/Integer', 'toString', [static]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nt_to_chars(+integer, [-chars]),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nt_to_chars(2004, N)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ICStus Prolog Jasper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011-3173-42C2-A08D-BA8583A41EE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a C interfés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_term_ref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burkolóosztály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sper át tudja írni a term-objektum belső azonosítójá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enek a Prolog típusoknak megfelelő osztályok. Csak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van (nem OO szemléletű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Átmenet a procedurális és a funkcionális megközelítés között (pl. procedurális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getAr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getList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araktertömbbel adott term termmé történő átalakításakor a változónév-változó párokat is megkaphatjuk egy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java.util.Map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ba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 támogatja a nagy egészek átadását (a Jav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g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a kínálja magá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BF6-0702-41D9-AE33-861F4D9EB83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00"/>
                </a:solidFill>
                <a:latin typeface="Times New Roman"/>
              </a:rPr>
              <a:t>Prolog felé irányuló hívá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tszőleges mélységben egymásba ágyazható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nyitás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ICStu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openQuery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etódusával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ztringként: </a:t>
            </a:r>
            <a:r>
              <a:rPr b="0" sz="1900" spc="-1" strike="noStrike">
                <a:solidFill>
                  <a:srgbClr val="003300"/>
                </a:solidFill>
                <a:latin typeface="Courier New"/>
              </a:rPr>
              <a:t>java.util.Map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-be kapjuk a megoldásokat, változónév kulcs, term-objektum érték párok formájáb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trukturáltan: modulnév, predikátumnév, argumentumok tömbj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egy SPQuery objektumot ad vissza. Ennek metódusai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next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első-, vagy 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következő megoldá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cut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ágó (az eredmények megmaradnak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close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isszaáll a megnyitás előtti verem-állapo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711-21F8-4D42-B565-FD856EB7EDA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Java objektumok kezelé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létrehozása Prologból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két oldal közötti átadá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Java oldalon tárolódna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zonosítóval lehet hivatkozni ráju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példány-metódus meghívás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Több szálból indított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 Prolognak egy verme va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z előbb indított lekérdezés lezárhatja a később indítottat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ivételek átalakulnak a másik oldal kivételévé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Elvileg tökéletes megoldá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Java kivétel Prolog oldalon a kivétel objektum azonosítója lesz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 kivételről információt (pl. szöveg) csak visszahívással szerezhetün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Sok esetben ez már nem sikerül, mert a Java környezet összeomlott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5F4-AE4D-4270-8A4D-E946874B71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ét oldal külön processzben fut, socket-en keresztül kommunkikál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Futhat a két oldal külön gépen (pl. Java oldal egy böngészőben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adható, hogy milyen kliens számítógépek (IP cím vagy név alapján) használhatják a Prolog kiszolgáló szolgáltatásai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Jelenleg csak a Prolog felé irányuló hívásokat támog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visszalépés, csak az első megoldást lehet elké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va oldali termek Java oldalon tárolódnak. Az absztrakt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leszármazottai az egyes Prolog típusoknak megfelelő osztályok (OO szemlélet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ICStus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rologBeans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77C-E6E4-47D5-908F-5C41E1630D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hívást sztringként lehet megadni, az argumentumokat egy változónév-érték párokat tartalmazó leképezés objektum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nding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segítségével lehet közölni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egyes leképezések megadásához különböző típusok is használhatók: egész, lebegőpontos, sztring (karakterkódok listája illetve atom) és általános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 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goldás a leképezés osztály egy leszármazott osztályának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QueryAnsw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segítségével nyerhető ki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ICStus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rologBeans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2AD-86AF-4985-B5A4-D1B4EB5279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ain: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gister_query(evaluate(C,P), my_predicate(C,P)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tart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y_predicate(Chars, P):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ad_from_chars(Chars, X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P is X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Java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indings bindings = new Bindings().bind("E", "2+3."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ueryAnswer answer =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ession.executeQuery("evaluate(E,R)", bindings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Term result = answer.getValue("R"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f (result != null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ystem.out.println(result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élda: evaluate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545-2B48-4CE0-8AF7-6DCEE534EAF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z egész rendszer Java nyelven íródot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GNU Prolog for Jav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Moks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PrologCafé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stb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Prolog motor Java osztályok segítségével ágyazható be a Java alkalmazásb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Jól integrálható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Nagymértékben OO szemléletű, mivel a fejlesztéskor nem kellett semmihez alkalmazkodni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„nagy” Prolog rendszerekhez képest kevés kiegészítő modul illetve könyvtár (nagy hátrány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Java alapú Prolog rendszere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469-A973-4E98-A53F-4D7B9CDC2D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aját készítésű Java interfés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ét oldal külön processzben fut, kapcsolat socket-en keresztü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sper-rel próbál kompatibilis len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Oda-vissza irányú hívások, tetszőleges mélységben egymásba ágyaz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tszőleges mélységben egymásba ágyazható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agy egészek átvitele mindkét irányban (Jav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g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segítségéve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ofia rendsz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F9C-D2D0-446B-BBB2-1DCB93C7DA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Prolog külső nyelvi kapcsolata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Elterjedt imperatív nyelvek és a Prolog közti intefészekről lesz sz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z egyik nyelvből meg tudjuk hívni a másik oldal egy eljárását/függvényét/predikátumá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datokat kell átadni a két oldal között (pl. a C felé)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Term típust kap a függvény: meg lehet kérdezni, hogy egész-e, el lehet kérni az értékét, stb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Előre specifikált típust kap (pl. int): a konverzióról, ellenőrzésről 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„glue code” gondoskod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AA0-CBD4-4D5B-BEEC-7521BF459886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Kivételek oda-vissza átalalkulnak a másik oldal kivételévé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Java kivételek esetén a kivétel-objektum azonosítója mellett a kivétel összes jellemzője is átmegy: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kivétel osztályának neve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szöveges reprezentációja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teljes stacktrace Prolog lista alakban (osztálynév, metódusnév stb.)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Egy gépen a hívások ideje egy nagyságrenddel lassabb a Jasper-nél (a taszkváltások miatt)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hívások adminisztrációs költsége többnyire elhanyagolható a futási idő mellett, emiatt a sebességbeli hátrány sem lesz számottevő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ofia rendszer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56A-E91C-421D-83C6-DB812481665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00"/>
                </a:solidFill>
                <a:latin typeface="Times New Roman"/>
              </a:rPr>
              <a:t>Köszönöm a figyelmet!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82A-1442-4D96-A04D-7471A4A79224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0802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gy interfész további jellemző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46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datok leképezése: „glue code”-dal kell-e foglalkoz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emlélet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procedurális: Az adott (pl. C) függvény az argumentumként kapott változóban szolgáltatja az eredményt. A visszatérési értékben lehet a sikerességet/hibát jelezn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funkcionális: A függvény a visszatérési értékében szolgáltatja az eredményt. Hibát (amennyiben nincsenek kivételek az adott nyelvben) lehet valamilyen érvénytelen értékkel jelezn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Termek létrehozása alulról felfelé, vagy felülről lefelé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Hívási irán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ivételkezelé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Fordítás, szerkesztés, futtatá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C09-B4FA-400C-8BCE-C26C95111DEF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Kényelmi szolgáltatás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determinizmus az imperatív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oldható egy burkoló-predikátum segítségé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% pred(Param, St0, St1): C-ben van megvalósítv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):-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, initial).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, St0):-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(Param, St0, St1),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( S1 == completed -&gt; true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nincs több megoldá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; true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még újrahívható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; nd_pred(Param, St1)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visszalépéskor az új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).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állapottal hívju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BB4-4174-4F4E-A7BE-990AF930D0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C interfésze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inte minden Prolog rendszerhez létezi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GNU, SWI, SICStus interfészeiről lesz sz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özös képességek/lehetősége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két irányú hívások lehetősége, korlátlan mélységben egymásba ágyazv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Prolog felé irányuló (nemdeterminisztikus) hívások esetén az eredmények egyesével való visszaadás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C-ből Prolog kivétel dobása, Prologban keletkezett kivétel fogadása C oldalo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Termek kezelése: azonosítóval (egész szám), pl. egy belső - Prolog verembe mutató mutatókat tartalmazó – tömb indexe (SICStus)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3300"/>
                </a:solidFill>
                <a:latin typeface="Times New Roman"/>
              </a:rPr>
              <a:t>Atomok kezelése: atomtáblába mutató tömbindexszel (hatékonyság). Karaktertömbként elkérve az atomot át lehet írni az atomtáblát (!), mivel nem készít másolatot a rendszer. Erre vigyázni kell.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042-E512-4A8D-B010-71D19CCFDB4F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802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Funkcionális megközelítés: 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 függvények 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isszatérési érték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többnyire maga az eredmén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„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Glue code” automatikusan generál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rm létrehozásakor a típust meg kell adni. Minden típushoz külön létrehozó függvény tartoz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Lehet nemdeterminisztikus predikátumot C-ben í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Fordítási időben meg kell adni az állapot tárolásához szükséges hely nagyságát (gépi szó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Get_Choice_Buffer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z állapotot tároló címet adja vissz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Get_Choice_Counter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visszalépések eddigi szám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No_More_Choice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álasztási pont törlé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93C-0B1B-4FA9-8562-9E79A9130E76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04000" cy="475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Megadható a paraméterek módja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bemenő: érték szerinti paraméterátadás (pl. </a:t>
            </a:r>
            <a:r>
              <a:rPr b="0" lang="hu-HU" sz="20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). A behelyettesítettséget, a típust és a tartományt (pl. pozitív egész) a rendszer ellenőrzi, és adott esetben kivételt dob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kimenő: cím szerinti paraméterátadás (pl. </a:t>
            </a:r>
            <a:r>
              <a:rPr b="0" lang="hu-HU" sz="2000" spc="-1" strike="noStrike">
                <a:solidFill>
                  <a:srgbClr val="003300"/>
                </a:solidFill>
                <a:latin typeface="Courier New"/>
              </a:rPr>
              <a:t>int*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mindkettő egyszerre (kényelmi szolgáltatás): egy előre definiált struktúra címét kapja meg a függvény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typedef struc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ool is_var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híváskor változó volt-e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ool unify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visszatéréskor egyesítsen-e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union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r>
              <a:rPr b="0" lang="hu-HU" sz="1400" spc="-1" strike="noStrike">
                <a:solidFill>
                  <a:srgbClr val="003300"/>
                </a:solidFill>
                <a:latin typeface="Courier New"/>
              </a:rPr>
              <a:t>a típus a specifikációból derül ki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l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egész v. term (azonosító)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char *s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double d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 value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 FIOArg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296-0FCF-4A51-B66C-C0BEC6E41D6B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ener Péter</cp:lastModifiedBy>
  <dcterms:modified xsi:type="dcterms:W3CDTF">2004-10-19T00:26:35Z</dcterms:modified>
  <cp:revision>131</cp:revision>
  <dc:subject/>
  <dc:title>PowerPoint bemutató</dc:title>
</cp:coreProperties>
</file>