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7FBA-7318-4A52-AA6D-55077D0ED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F193-AF9D-44BC-B8DA-1DEB62F9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F9A0-20FA-4DDC-9867-AF0D6B221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2FB6-B51D-445C-9D7E-89D5E728F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9CBC-F73B-4F80-A3EF-DDF559CE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6BCE-CDEB-4C51-AC00-36C40BE2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2B0A-AEA8-4D57-89A3-36A5F54C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0753-0BCA-4FDC-94D4-033C2622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D51C-9396-49B8-AFFB-007D8A07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F7E0-4252-4F79-9845-861B61B6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1944-8532-4BE7-964F-2373F1E9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1110-A3FD-4B3B-A546-6FFE5DD7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E722-F832-47CC-A0A7-20C1256E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BF01-3D9D-4D36-9C0C-9BD59336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57FD-47D0-43EF-BCC3-D9105D07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F69F-0017-4B28-8CA0-A62DE15B7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C2DB-32EC-4669-9658-87EF3252F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4B6B-135E-4039-A183-4DF0AB51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80C3-1DF3-408D-B247-642591DD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77FA-C4C0-4946-83B6-7E336845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832A-EBA9-481A-A1BE-636F58EA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750A-F9A1-4EE6-9ECA-B092FD48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FB92-F2E6-4136-AFFB-BBC3A2AF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6DAE-902A-45DF-B37D-93775FFB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7920" y="6248160"/>
            <a:ext cx="21272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hu-H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160"/>
            <a:ext cx="2894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hu-H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41680"/>
            <a:ext cx="5839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hu-H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1617619-D27D-4DE8-BBD4-5AB79BAD2D36}" type="slidenum"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7920" y="6248160"/>
            <a:ext cx="21272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160"/>
            <a:ext cx="2894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hu-H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45280"/>
            <a:ext cx="5839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hu-H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A4F289-ED5C-4FC6-AA00-C327A424B950}" type="slidenum">
              <a:rPr b="1" lang="hu-H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720"/>
            <a:ext cx="76690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nstraint Handling Rules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(CHR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3015720"/>
            <a:ext cx="4013280" cy="18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Őr feltét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etter Gothic"/>
              </a:rPr>
              <a:t>| ?-  ember(d,4), ember(a,5),ember(b,5), ember(c,4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etter Gothic"/>
              </a:rPr>
              <a:t>ember(d,2)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etter Gothic"/>
              </a:rPr>
              <a:t>ember(c,3)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etter Gothic"/>
              </a:rPr>
              <a:t>ember(b,4)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etter Gothic"/>
              </a:rPr>
              <a:t>ember(a,5) 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etter Gothic"/>
              </a:rPr>
              <a:t>y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etter Gothic"/>
              </a:rPr>
              <a:t>| ?-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Változók egyesíté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Letter Gothic"/>
              </a:rPr>
              <a:t>ember(</a:t>
            </a:r>
            <a:r>
              <a:rPr b="0" lang="hu-HU" sz="2000" spc="-1" strike="noStrike">
                <a:solidFill>
                  <a:srgbClr val="003366"/>
                </a:solidFill>
                <a:latin typeface="Letter Gothic"/>
              </a:rPr>
              <a:t>N1</a:t>
            </a:r>
            <a:r>
              <a:rPr b="0" lang="pt-BR" sz="2000" spc="-1" strike="noStrike">
                <a:solidFill>
                  <a:srgbClr val="003366"/>
                </a:solidFill>
                <a:latin typeface="Letter Gothic"/>
              </a:rPr>
              <a:t>,E1) \ ember(N2,E</a:t>
            </a:r>
            <a:r>
              <a:rPr b="0" lang="hu-HU" sz="2000" spc="-1" strike="noStrike">
                <a:solidFill>
                  <a:srgbClr val="003366"/>
                </a:solidFill>
                <a:latin typeface="Letter Gothic"/>
              </a:rPr>
              <a:t>1</a:t>
            </a:r>
            <a:r>
              <a:rPr b="0" lang="pt-BR" sz="2000" spc="-1" strike="noStrike">
                <a:solidFill>
                  <a:srgbClr val="003366"/>
                </a:solidFill>
                <a:latin typeface="Letter Gothic"/>
              </a:rPr>
              <a:t>) &lt;=&gt;</a:t>
            </a:r>
            <a:r>
              <a:rPr b="0" lang="hu-HU" sz="2000" spc="-1" strike="noStrike">
                <a:solidFill>
                  <a:srgbClr val="003366"/>
                </a:solidFill>
                <a:latin typeface="Letter Gothic"/>
              </a:rPr>
              <a:t> 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Letter Gothic"/>
              </a:rPr>
              <a:t>| ?-  ember(a,5), ember(b,X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Nem tüzel, mert a </a:t>
            </a: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CHR egyesítés egyirányú: szabályfej illesztésekor nem helyettesítődhet be változó a korlátban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Letter Gothic"/>
              </a:rPr>
              <a:t>ember(</a:t>
            </a:r>
            <a:r>
              <a:rPr b="0" lang="hu-HU" sz="2000" spc="-1" strike="noStrike">
                <a:solidFill>
                  <a:srgbClr val="003366"/>
                </a:solidFill>
                <a:latin typeface="Letter Gothic"/>
              </a:rPr>
              <a:t>N1</a:t>
            </a:r>
            <a:r>
              <a:rPr b="0" lang="pt-BR" sz="2000" spc="-1" strike="noStrike">
                <a:solidFill>
                  <a:srgbClr val="003366"/>
                </a:solidFill>
                <a:latin typeface="Letter Gothic"/>
              </a:rPr>
              <a:t>,E1) \ ember(N2,E2) &lt;=&gt; E1 </a:t>
            </a:r>
            <a:r>
              <a:rPr b="0" lang="en-US" sz="2000" spc="-1" strike="noStrike">
                <a:solidFill>
                  <a:srgbClr val="003366"/>
                </a:solidFill>
                <a:latin typeface="Letter Gothic"/>
              </a:rPr>
              <a:t>=</a:t>
            </a:r>
            <a:r>
              <a:rPr b="0" lang="pt-BR" sz="2000" spc="-1" strike="noStrike">
                <a:solidFill>
                  <a:srgbClr val="003366"/>
                </a:solidFill>
                <a:latin typeface="Letter Gothic"/>
              </a:rPr>
              <a:t> E2,</a:t>
            </a:r>
            <a:r>
              <a:rPr b="0" lang="hu-HU" sz="2000" spc="-1" strike="noStrike">
                <a:solidFill>
                  <a:srgbClr val="003366"/>
                </a:solidFill>
                <a:latin typeface="Letter Gothic"/>
              </a:rPr>
              <a:t>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Az őrfeltétel </a:t>
            </a: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meghiúsul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, ha behelyettesítés történik az őrfeltételbe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Felad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do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X,L)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: az X változó az L tömör listából vehet csak értékek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Letter Gothic"/>
              </a:rPr>
              <a:t>use_module(library(sets), [intersection/3]).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Letter Gothic"/>
              </a:rPr>
              <a:t>:- chr_constraint dom/2.</a:t>
            </a:r>
            <a:r>
              <a:rPr b="0" lang="en-US" sz="2800" spc="-1" strike="noStrike">
                <a:solidFill>
                  <a:srgbClr val="003366"/>
                </a:solidFill>
                <a:latin typeface="Letter Gothic"/>
              </a:rPr>
              <a:t>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etter Gothic"/>
              </a:rPr>
              <a:t>dom(_,[]) &lt;=&gt; fai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etter Gothic"/>
              </a:rPr>
              <a:t>dom(X,[Y]) &lt;=&gt; X = 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etter Gothic"/>
              </a:rPr>
              <a:t>dom(X,L) &lt;=&gt; nonvar(X) | memberchk(X,L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etter Gothic"/>
              </a:rPr>
              <a:t>dom(X,L1), dom(X,L2) &lt;=&gt; intersection(L1,L2,L3), dom(X,L3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dur="indefinite" fill="hold">
                      <p:stCondLst>
                        <p:cond delay="0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ord</a:t>
            </a:r>
            <a:r>
              <a:rPr b="1" lang="hu-HU" sz="3200" spc="-1" strike="noStrike">
                <a:solidFill>
                  <a:srgbClr val="006666"/>
                </a:solidFill>
                <a:latin typeface="Arial"/>
              </a:rPr>
              <a:t>ítás optimalizálása, pragmák használat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etter Gothic"/>
              </a:rPr>
              <a:t>dom(X,L1), dom(X,L2) &lt;=&gt; intersection(L1,L2,L3), dom(X,L3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Ha jön egy új dom(X,L) korlát, akkor az ráilleszthető mind a szabály első fejére, mind a másodikra. A két esetben a működés azonos, így az egyikre nincs szüksé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etter Gothic"/>
              </a:rPr>
              <a:t>dom(X,L1), dom(X,L2)</a:t>
            </a:r>
            <a:r>
              <a:rPr b="0" lang="en-US" sz="2400" spc="-1" strike="noStrike">
                <a:solidFill>
                  <a:srgbClr val="ff0000"/>
                </a:solidFill>
                <a:latin typeface="Letter Gothic"/>
              </a:rPr>
              <a:t>#Head2</a:t>
            </a:r>
            <a:r>
              <a:rPr b="0" lang="en-US" sz="2400" spc="-1" strike="noStrike">
                <a:solidFill>
                  <a:srgbClr val="003366"/>
                </a:solidFill>
                <a:latin typeface="Letter Gothic"/>
              </a:rPr>
              <a:t> &lt;=&gt; intersection(L1,L2,L3), dom(X,L3) </a:t>
            </a:r>
            <a:r>
              <a:rPr b="0" lang="en-US" sz="2400" spc="-1" strike="noStrike">
                <a:solidFill>
                  <a:srgbClr val="ff0000"/>
                </a:solidFill>
                <a:latin typeface="Letter Gothic"/>
              </a:rPr>
              <a:t>pragma passive(Head2)</a:t>
            </a:r>
            <a:r>
              <a:rPr b="0" lang="en-US" sz="2400" spc="-1" strike="noStrike">
                <a:solidFill>
                  <a:srgbClr val="003366"/>
                </a:solidFill>
                <a:latin typeface="Letter Gothic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dur="indefinite" fill="hold">
                      <p:stCondLst>
                        <p:cond delay="0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fill="hold">
                      <p:stCondLst>
                        <p:cond delay="indefinite"/>
                      </p:stCondLst>
                      <p:childTnLst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Felad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Eratosthenes szitája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primes(N) korlát hatására az összes N-nél kisebb prím számra felveszünk egy prim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/1 korl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áto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:- chr_constraint primes/1, prime/1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primes(1) &lt;=&gt; tru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primes(N) &lt;=&gt; ground(N), N&gt;1 | M is N-1, primes(M), prime(N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prime(X) \ prime(Y) &lt;=&gt; Y mod X =:= 0 | tru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dur="indefinite" fill="hold">
                      <p:stCondLst>
                        <p:cond delay="0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dur="indefinite" fill="hold">
                      <p:stCondLst>
                        <p:cond delay="indefinite"/>
                      </p:stCondLst>
                      <p:childTnLst>
                        <p:par>
                          <p:cTn id="1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Felad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Egy számtömböt ábrázoljunk a(Index,Ertek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párok alakjába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Írj CHR szabályt, mely megvalósítja a tömb rendezésé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:- chr_constraint a/2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a(I1,V1), a(I2,V2) &lt;=&gt; I1&gt;I2, V1&lt;V2 | a(I1,V2),a(I2,V1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dur="indefinite" fill="hold">
                      <p:stCondLst>
                        <p:cond delay="0"/>
                      </p:stCondLst>
                      <p:childTnLst>
                        <p:par>
                          <p:cTn id="2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Felad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 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történik akkor, ha az előző példában felcseréljük a szabály fejét és törzsét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Csökkenő sorrendbe rendeződnek a szám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:- chr_constraint b/2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b(I1,V2), b(I2,V1) &lt;=&gt; I1&gt;I2, V1&lt;V2 | b(I1,V1),b(I2,V2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dur="indefinite" fill="hold">
                      <p:stCondLst>
                        <p:cond delay="0"/>
                      </p:stCondLst>
                      <p:childTnLst>
                        <p:par>
                          <p:cTn id="2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dur="indefinite" fill="hold">
                      <p:stCondLst>
                        <p:cond delay="indefinite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dur="indefinite" fill="hold">
                      <p:stCondLst>
                        <p:cond delay="indefinite"/>
                      </p:stCondLst>
                      <p:childTnLst>
                        <p:par>
                          <p:cTn id="2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Felad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8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Adott az alábbi 6 szó: mari, csak, sajt, otto, ajax,  ar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6240" indent="-3362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Helyezzük el őket a lenti keresztrejtvénybe úgy, hogy 4 szó vízszintesen legyen, kettő pedig a két középső függőleges oszlopban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867280" y="3789360"/>
            <a:ext cx="2880000" cy="2878200"/>
            <a:chOff x="5867280" y="3789360"/>
            <a:chExt cx="2880000" cy="2878200"/>
          </a:xfrm>
        </p:grpSpPr>
        <p:sp>
          <p:nvSpPr>
            <p:cNvPr id="130" name=""/>
            <p:cNvSpPr/>
            <p:nvPr/>
          </p:nvSpPr>
          <p:spPr>
            <a:xfrm>
              <a:off x="7307280" y="5229360"/>
              <a:ext cx="719280" cy="7189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8000" y="5229360"/>
              <a:ext cx="719280" cy="7189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67280" y="4508640"/>
              <a:ext cx="719280" cy="7189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86560" y="4508640"/>
              <a:ext cx="719280" cy="7189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07280" y="4508640"/>
              <a:ext cx="719280" cy="7189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028000" y="4508640"/>
              <a:ext cx="719280" cy="7189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67280" y="3789360"/>
              <a:ext cx="719280" cy="7192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586560" y="3789360"/>
              <a:ext cx="719280" cy="7192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07280" y="3789360"/>
              <a:ext cx="719280" cy="7192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028000" y="3789360"/>
              <a:ext cx="719280" cy="7192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867280" y="5948280"/>
              <a:ext cx="719280" cy="7192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86560" y="5948280"/>
              <a:ext cx="719280" cy="7192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67280" y="5229360"/>
              <a:ext cx="719280" cy="7189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07280" y="5948280"/>
              <a:ext cx="719280" cy="7192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86560" y="5229360"/>
              <a:ext cx="719280" cy="7189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028000" y="5948280"/>
              <a:ext cx="719280" cy="7192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Felad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:- chr_constraint szo/4, megoldas/1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szo(A1,B1,C1,D1),szo(A2,B2,C2,D2), szo(A3,B3,C3,D3),szo(A4,B4,C4,D4)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szo(B1,B2,B3,B4),szo(C1,C2,C3,C4) &lt;=&gt; </a:t>
            </a: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megoldas([[A1,B1,C1,D1],                          [A2,B2,C2,D2],                          [A3,B3,C3,D3],                          [A4,B4,C4,D4]]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Felad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teszt_szo: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        </a:t>
            </a: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szo(m,a,r,i), szo(c,s,a,k)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        </a:t>
            </a: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szo(s,a,j,t), szo(o,t,t,o)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        </a:t>
            </a: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szo(a,j,a,x), szo(a,r,a,t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Letter Gothic"/>
              </a:rPr>
              <a:t>| ?- teszt_sz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Letter Gothic"/>
              </a:rPr>
              <a:t>megoldas([[c,s,a,k],[m,a,r,i],[a,j,a,x],[o,t,t,o]]) ? 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Letter Gothic"/>
              </a:rPr>
              <a:t>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Letter Gothic"/>
              </a:rPr>
              <a:t>% source_inf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Letter Gothic"/>
              </a:rPr>
              <a:t>| ?-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732720" y="4653000"/>
            <a:ext cx="1944720" cy="1944720"/>
            <a:chOff x="6732720" y="4653000"/>
            <a:chExt cx="1944720" cy="1944720"/>
          </a:xfrm>
        </p:grpSpPr>
        <p:sp>
          <p:nvSpPr>
            <p:cNvPr id="151" name=""/>
            <p:cNvSpPr/>
            <p:nvPr/>
          </p:nvSpPr>
          <p:spPr>
            <a:xfrm>
              <a:off x="7705800" y="5626080"/>
              <a:ext cx="485640" cy="485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hu-HU" sz="1800" spc="-1" strike="noStrike">
                  <a:solidFill>
                    <a:srgbClr val="003366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91440" y="5626080"/>
              <a:ext cx="486000" cy="485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hu-HU" sz="1800" spc="-1" strike="noStrike">
                  <a:solidFill>
                    <a:srgbClr val="003366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32720" y="5138640"/>
              <a:ext cx="485640" cy="486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hu-HU" sz="1800" spc="-1" strike="noStrike">
                  <a:solidFill>
                    <a:srgbClr val="003366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218360" y="5138640"/>
              <a:ext cx="485640" cy="486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hu-HU" sz="1800" spc="-1" strike="noStrike">
                  <a:solidFill>
                    <a:srgbClr val="003366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05800" y="5138640"/>
              <a:ext cx="485640" cy="486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hu-HU" sz="1800" spc="-1" strike="noStrike">
                  <a:solidFill>
                    <a:srgbClr val="003366"/>
                  </a:solidFill>
                  <a:latin typeface="Tahoma"/>
                </a:rPr>
                <a:t>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191440" y="5138640"/>
              <a:ext cx="486000" cy="486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hu-HU" sz="1800" spc="-1" strike="noStrike">
                  <a:solidFill>
                    <a:srgbClr val="003366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32720" y="4653000"/>
              <a:ext cx="485640" cy="485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hu-HU" sz="1800" spc="-1" strike="noStrike">
                  <a:solidFill>
                    <a:srgbClr val="003366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18360" y="4653000"/>
              <a:ext cx="485640" cy="485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hu-HU" sz="1800" spc="-1" strike="noStrike">
                  <a:solidFill>
                    <a:srgbClr val="003366"/>
                  </a:solidFill>
                  <a:latin typeface="Tahoma"/>
                </a:rPr>
                <a:t>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705800" y="4653000"/>
              <a:ext cx="485640" cy="485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hu-HU" sz="1800" spc="-1" strike="noStrike">
                  <a:solidFill>
                    <a:srgbClr val="003366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91440" y="4653000"/>
              <a:ext cx="486000" cy="485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hu-HU" sz="1800" spc="-1" strike="noStrike">
                  <a:solidFill>
                    <a:srgbClr val="003366"/>
                  </a:solidFill>
                  <a:latin typeface="Tahoma"/>
                </a:rPr>
                <a:t>K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32720" y="6111720"/>
              <a:ext cx="485640" cy="486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hu-HU" sz="1800" spc="-1" strike="noStrike">
                  <a:solidFill>
                    <a:srgbClr val="003366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18360" y="6111720"/>
              <a:ext cx="485640" cy="486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hu-HU" sz="1800" spc="-1" strike="noStrike">
                  <a:solidFill>
                    <a:srgbClr val="003366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32720" y="5626080"/>
              <a:ext cx="485640" cy="485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hu-HU" sz="1800" spc="-1" strike="noStrike">
                  <a:solidFill>
                    <a:srgbClr val="003366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05800" y="6111720"/>
              <a:ext cx="485640" cy="486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hu-HU" sz="1800" spc="-1" strike="noStrike">
                  <a:solidFill>
                    <a:srgbClr val="003366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18360" y="5626080"/>
              <a:ext cx="485640" cy="485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hu-HU" sz="1800" spc="-1" strike="noStrike">
                  <a:solidFill>
                    <a:srgbClr val="003366"/>
                  </a:solidFill>
                  <a:latin typeface="Tahoma"/>
                </a:rPr>
                <a:t>J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91440" y="6111720"/>
              <a:ext cx="486000" cy="486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hu-HU" sz="1800" spc="-1" strike="noStrike">
                  <a:solidFill>
                    <a:srgbClr val="003366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 a CHR</a:t>
            </a: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Általános keretrendszer felhasználói korlátok írásá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Szimbolikus felhasználói korlátok írhatóa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A korlát változók értéke tetszőleges struktúra leh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Mivel több a CH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12680" y="23983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Az előre gyártott (beépített) korlátmegoldó rendszerek egy bizonyos tartományhoz kötődne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000" spc="-1" strike="noStrike">
                <a:solidFill>
                  <a:srgbClr val="003366"/>
                </a:solidFill>
                <a:latin typeface="Arial"/>
              </a:rPr>
              <a:t>CLPB: bool érték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000" spc="-1" strike="noStrike">
                <a:solidFill>
                  <a:srgbClr val="003366"/>
                </a:solidFill>
                <a:latin typeface="Arial"/>
              </a:rPr>
              <a:t>CLPR: valós szám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000" spc="-1" strike="noStrike">
                <a:solidFill>
                  <a:srgbClr val="003366"/>
                </a:solidFill>
                <a:latin typeface="Arial"/>
              </a:rPr>
              <a:t>CLPQ: racionáli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0" lang="hu-HU" sz="2000" spc="-1" strike="noStrike">
                <a:solidFill>
                  <a:srgbClr val="003366"/>
                </a:solidFill>
                <a:latin typeface="Arial"/>
              </a:rPr>
              <a:t> szám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000" spc="-1" strike="noStrike">
                <a:solidFill>
                  <a:srgbClr val="003366"/>
                </a:solidFill>
                <a:latin typeface="Arial"/>
              </a:rPr>
              <a:t>CLPFD: természetes szám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Hogyan működik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a CHR</a:t>
            </a: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Betöltjük a chr könyvtár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etter Gothic"/>
              </a:rPr>
              <a:t>:- use_module(library(chr))</a:t>
            </a: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klar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áljuk a felhasználói korlátok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:- chr</a:t>
            </a:r>
            <a:r>
              <a:rPr b="0" lang="en-US" sz="2400" spc="-1" strike="noStrike">
                <a:solidFill>
                  <a:srgbClr val="003366"/>
                </a:solidFill>
                <a:latin typeface="Letter Gothic"/>
              </a:rPr>
              <a:t>_</a:t>
            </a: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constraint </a:t>
            </a:r>
            <a:r>
              <a:rPr b="0" lang="en-US" sz="2400" spc="-1" strike="noStrike">
                <a:solidFill>
                  <a:srgbClr val="003366"/>
                </a:solidFill>
                <a:latin typeface="Letter Gothic"/>
              </a:rPr>
              <a:t>leq/2</a:t>
            </a: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Szabályokat fogalmazunk meg a korlátok kezelésé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leq(X,X) &lt;=&gt; tru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leq(X,Y), leq(Y,X) &lt;=&gt; X = 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leq(X,Y) \ leq(X,Y) &lt;=&gt; tru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leq(X,Y), leq(Y,Z) ==&gt; leq(X,Z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CHR szabályok - propagáció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Konklúzió levonás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Letter Gothic"/>
              </a:rPr>
              <a:t>:- chr_constraint eso/0, nedves/0, esernyo/0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Letter Gothic"/>
              </a:rPr>
              <a:t>eso ==&gt; nedv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Letter Gothic"/>
              </a:rPr>
              <a:t>eso ==&gt; eserny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A fejben levő korlátok a tárban maradna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Letter Gothic"/>
              </a:rPr>
              <a:t>| ?- es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Letter Gothic"/>
              </a:rPr>
              <a:t>eso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Letter Gothic"/>
              </a:rPr>
              <a:t>nedves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Letter Gothic"/>
              </a:rPr>
              <a:t>eserny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CHR szabályok - egyszerűsíté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1360" indent="-26136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A fejben levő korlátok kikerülnek a tárbó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61360" indent="-26136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Egyszerűsítés, állapotváltozás, dinamikus viselkedé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61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:- chr_constraint kelet/0, nyugat/0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61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                  </a:t>
            </a: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eszak/0, del/0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61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kelet, nyugat &lt;=&gt; true. % 1 lépés keletre +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61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                        </a:t>
            </a: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% 1 lépés nyugatra = semm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61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eszak, del &lt;=&gt; tru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61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| ?- kelet, kelet, eszak, nyugat, del, kelet, eszak, del, nyuga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61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kelet 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CHR szabályok - egypagáció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Fejben levő korlátok egy része a tárban marad, egy része kikerül onn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6240" indent="-3362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Pl: egy gazdag ember nem hagyja, hogy a barátja szegény maradj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6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:- chr_constraint gazdag/1, baratja/2,                    szegeny/1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6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   </a:t>
            </a: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gazdag(X), baratja(X,Y) \ szegeny(Y)        &lt;=&gt; gazdag(Y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6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Vagy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etleg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6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   </a:t>
            </a: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gazdag(X), baratja(X,Y) \ szegeny(Y)        &lt;=&gt; </a:t>
            </a:r>
            <a:r>
              <a:rPr b="0" lang="en-US" sz="2400" spc="-1" strike="noStrike">
                <a:solidFill>
                  <a:srgbClr val="003366"/>
                </a:solidFill>
                <a:latin typeface="Letter Gothic"/>
              </a:rPr>
              <a:t>true</a:t>
            </a: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Példa: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=&lt; korl</a:t>
            </a: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át megvalósítás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:- chr_constraint leq/2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ref </a:t>
            </a:r>
            <a:r>
              <a:rPr b="0" lang="en-US" sz="2400" spc="-1" strike="noStrike">
                <a:solidFill>
                  <a:srgbClr val="003366"/>
                </a:solidFill>
                <a:latin typeface="Letter Gothic"/>
              </a:rPr>
              <a:t>   </a:t>
            </a: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@ leq(X,X) &lt;=&gt; tru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etter Gothic"/>
              </a:rPr>
              <a:t>a</a:t>
            </a: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ntisy</a:t>
            </a:r>
            <a:r>
              <a:rPr b="0" lang="en-US" sz="2400" spc="-1" strike="noStrike">
                <a:solidFill>
                  <a:srgbClr val="003366"/>
                </a:solidFill>
                <a:latin typeface="Letter Gothic"/>
              </a:rPr>
              <a:t> </a:t>
            </a: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@ leq(X,Y), leq(Y,X) &lt;=&gt; X = 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etter Gothic"/>
              </a:rPr>
              <a:t>i</a:t>
            </a: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dem</a:t>
            </a:r>
            <a:r>
              <a:rPr b="0" lang="en-US" sz="2400" spc="-1" strike="noStrike">
                <a:solidFill>
                  <a:srgbClr val="003366"/>
                </a:solidFill>
                <a:latin typeface="Letter Gothic"/>
              </a:rPr>
              <a:t> </a:t>
            </a: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  @ leq(X,Y) \ leq(X,Y) &lt;=&gt; tru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etter Gothic"/>
              </a:rPr>
              <a:t>t</a:t>
            </a: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rans</a:t>
            </a:r>
            <a:r>
              <a:rPr b="0" lang="en-US" sz="2400" spc="-1" strike="noStrike">
                <a:solidFill>
                  <a:srgbClr val="003366"/>
                </a:solidFill>
                <a:latin typeface="Letter Gothic"/>
              </a:rPr>
              <a:t> </a:t>
            </a: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 @ leq(X,Y), leq(Y,Z) ==&gt; leq(X,Z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A fej előtt opcionális szabálynév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Őr feltét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19320" indent="-3193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000" spc="-1" strike="noStrike">
                <a:solidFill>
                  <a:srgbClr val="003366"/>
                </a:solidFill>
                <a:latin typeface="Arial"/>
              </a:rPr>
              <a:t>Előírhatjuk, hogy milyen feltételek mellett tüzelhet a szabál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9320" indent="-3193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000" spc="-1" strike="noStrike">
                <a:solidFill>
                  <a:srgbClr val="003366"/>
                </a:solidFill>
                <a:latin typeface="Arial"/>
              </a:rPr>
              <a:t>Az embereket embe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N</a:t>
            </a:r>
            <a:r>
              <a:rPr b="0" lang="hu-HU" sz="2000" spc="-1" strike="noStrike">
                <a:solidFill>
                  <a:srgbClr val="003366"/>
                </a:solidFill>
                <a:latin typeface="Arial"/>
              </a:rPr>
              <a:t>év,Erő) korlátokkal ábrázoljuk. Ha van két ugyanolyan erős ember, akkor a névsorban előbb levő úgy összeveri a másikat, hogy annak eggyel csökken az ereje. Akinek elfogy az ereje, az meghal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9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9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Letter Gothic"/>
              </a:rPr>
              <a:t>:- chr_constraint ember/2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9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Letter Gothic"/>
              </a:rPr>
              <a:t>ember(_,0) &lt;=&gt; tru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9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Letter Gothic"/>
              </a:rPr>
              <a:t>ember(</a:t>
            </a:r>
            <a:r>
              <a:rPr b="0" lang="hu-HU" sz="2400" spc="-1" strike="noStrike">
                <a:solidFill>
                  <a:srgbClr val="003366"/>
                </a:solidFill>
                <a:latin typeface="Letter Gothic"/>
              </a:rPr>
              <a:t>N1</a:t>
            </a:r>
            <a:r>
              <a:rPr b="0" lang="pt-BR" sz="2400" spc="-1" strike="noStrike">
                <a:solidFill>
                  <a:srgbClr val="003366"/>
                </a:solidFill>
                <a:latin typeface="Letter Gothic"/>
              </a:rPr>
              <a:t>,E1) \ ember(N2,E2) &lt;=&gt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9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Letter Gothic"/>
              </a:rPr>
              <a:t>  </a:t>
            </a:r>
            <a:r>
              <a:rPr b="0" lang="pt-BR" sz="2400" spc="-1" strike="noStrike">
                <a:solidFill>
                  <a:srgbClr val="003366"/>
                </a:solidFill>
                <a:latin typeface="Letter Gothic"/>
              </a:rPr>
              <a:t>E1 </a:t>
            </a:r>
            <a:r>
              <a:rPr b="0" lang="en-US" sz="2400" spc="-1" strike="noStrike">
                <a:solidFill>
                  <a:srgbClr val="003366"/>
                </a:solidFill>
                <a:latin typeface="Letter Gothic"/>
              </a:rPr>
              <a:t>==</a:t>
            </a:r>
            <a:r>
              <a:rPr b="0" lang="pt-BR" sz="2400" spc="-1" strike="noStrike">
                <a:solidFill>
                  <a:srgbClr val="003366"/>
                </a:solidFill>
                <a:latin typeface="Letter Gothic"/>
              </a:rPr>
              <a:t> E2, N1 </a:t>
            </a:r>
            <a:r>
              <a:rPr b="0" lang="en-US" sz="2400" spc="-1" strike="noStrike">
                <a:solidFill>
                  <a:srgbClr val="003366"/>
                </a:solidFill>
                <a:latin typeface="Letter Gothic"/>
              </a:rPr>
              <a:t>@</a:t>
            </a:r>
            <a:r>
              <a:rPr b="0" lang="pt-BR" sz="2400" spc="-1" strike="noStrike">
                <a:solidFill>
                  <a:srgbClr val="003366"/>
                </a:solidFill>
                <a:latin typeface="Letter Gothic"/>
              </a:rPr>
              <a:t>&lt; N2 /*eddig tart az őr*/|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9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Letter Gothic"/>
              </a:rPr>
              <a:t>  </a:t>
            </a:r>
            <a:r>
              <a:rPr b="0" lang="pt-BR" sz="2400" spc="-1" strike="noStrike">
                <a:solidFill>
                  <a:srgbClr val="003366"/>
                </a:solidFill>
                <a:latin typeface="Letter Gothic"/>
              </a:rPr>
              <a:t>E3 is E2-1, ember(N2,E3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dur="indefinite" fill="hold">
                      <p:stCondLst>
                        <p:cond delay="0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07:54:53Z</dcterms:created>
  <dc:creator>Zsolt Zombori</dc:creator>
  <dc:description/>
  <dc:language>en-US</dc:language>
  <cp:lastModifiedBy>SZIT júzer_2</cp:lastModifiedBy>
  <dcterms:modified xsi:type="dcterms:W3CDTF">1988-01-01T00:29:40Z</dcterms:modified>
  <cp:revision>11</cp:revision>
  <dc:subject/>
  <dc:title>Constraint Handling Rules (CHR)</dc:title>
</cp:coreProperties>
</file>